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2DA-1D72-462B-A277-65D1A873F1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8443-A59E-49D1-ABDC-E1DA9EBD53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2724-587A-4FCC-946A-EDF2703C7C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420E-81FD-460E-B134-432FB82F73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808-7A25-4A0A-8DD1-42E596DF0E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347D-24F8-4BED-BD42-3803E5C947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9EE-EDC5-4F1A-AC74-86024BE3AB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D516-571A-4914-A04A-4C1B7D6E27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783-F456-48E4-A545-3A8161E6F9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9CD-0688-468D-8718-3115AC0F48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E58-4D1D-4B86-86A3-590365B75D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613-2643-4442-8932-83593A49F0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1D72-6249-4FC7-8DEF-769D18D8F0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EBA-4D1C-46DC-8F66-748754242A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2A45-F605-46CC-8839-BA18E95B2D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D73-2452-4A22-A1F8-2F18A56E88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992-47B3-459A-A0B2-A1FB617597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3D74-9145-4ADB-BF19-5D025FB5BA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054-A253-4654-ADF2-B3CB12E7BE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195-0C56-4652-B230-F5E69F15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40E-5FB9-4A55-9B2B-9B69249C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6BC-3EDD-4DB4-A31B-42F7814E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50A-69CD-4769-ADA7-3A40313E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372-24D4-4399-8683-EA1DDDCB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F09-84C2-4EAC-A8FD-D3DCECC9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5FD-8AC6-42C1-84AA-6FB2219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A94-E49F-4927-A72E-BF423C8F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F33-BE6A-4E6F-9011-DACF1DDC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172-4708-42C2-83FD-80A8130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747-59F1-47F9-9B91-452D908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B01-3E3A-4703-ABA9-83A1BAC4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621-DF44-497D-9208-8A874BA6E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chmark #1 Flash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, Islam, &amp; Africa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juk Tu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ayya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dob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ity in Spain for Umayy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branches of Isl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ame th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basi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ST AFRICA IN THE MIDDLE 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ger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a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hara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phic zones in Africa (name the 3 typ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ha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-Saharan Carav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Goods in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 of Islam to West Africa (How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Islam &amp; Arabic (expl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Spe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archal (hint: think of “p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riarchal (hint: think of “m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cities in West Africa (explain how it happen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ANK FLASH CARDS (IN CASE YOU WANT TO CREATE MOR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provided you with a list of terms &amp; ideas that you will need to study for your Benchma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out the flash cards &amp; define the words on the back of each ca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 yourself by seeing if you can define each word or read the definition and see if you can identify the word it relates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SE &amp; FALL OF 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us (formerly Octav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i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clet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lius Cae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que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Sc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rthodox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e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anic tribes (barbar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opl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(Byzantine Emp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Rome (Reasons for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trengths (What were the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WTH &amp; SPREAD OF ISL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b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bri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an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jr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ah (G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y-Dw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abian Peninsula (Ara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dou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illars of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8:17:52Z</dcterms:created>
  <dc:creator>Wesley Banh</dc:creator>
  <dc:description/>
  <dc:language>en-US</dc:language>
  <cp:lastModifiedBy>Wesley Banh</cp:lastModifiedBy>
  <dcterms:modified xsi:type="dcterms:W3CDTF">2010-10-27T18:59:01Z</dcterms:modified>
  <cp:revision>4</cp:revision>
  <dc:subject/>
  <dc:title>Benchmark #1 Flash Cards</dc:title>
</cp:coreProperties>
</file>