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029B-8FE6-4412-9DBD-7C3D6108CA8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D2F4-C678-41B6-8363-5AE6C70BDEF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B9A3-F0C4-4FFE-AAE2-00292F24274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3C58-95FA-4980-B59C-8E2F099D27C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2C45-E703-4E4D-8489-FDCBE2C1D7A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CFC1-CE5E-47D9-928E-C157264D75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6B2A-03B6-4AA5-9FEB-9BC2C79B105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DD2F-1362-4A41-8DED-37388870D91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D756-D04E-46EF-B622-275961B4F0F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4BB2-6BAE-47F0-8482-C7AC85846CF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8D30-597E-4B52-85BF-DDA85C0F23A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DD0F-51CF-4A1E-9018-F1E7A020183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9A28-86B1-4DC8-8039-05577201C74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8874-6F2C-4F36-8BCD-88A17C449EC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7C17-8DED-4474-9E2A-262A4DC2134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6074-EE3B-4B04-8DA1-19D12F0F7A4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8DFC-C3D6-40A8-BA9C-9DC7E60DF7D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C94E-81DB-4F28-9067-78A3352C20D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4F6A-4CE5-4C77-A018-2E5BCF289D4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8F0-B6F8-47F8-8B0D-889F544C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FD4-5881-4091-B35A-0C9871B2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5F5-7E22-4CC4-B7B5-5ABE02D5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957-A7D4-4928-BB74-E295B3B4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737-E669-4DF9-A537-DD08B34A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F19-C935-4D53-9F2D-257EE40E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0E8-A001-40BB-9719-13BE0EDB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A0C-327C-47C0-A80A-909CEAD3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BB3-7113-4D69-B672-91146598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BA1-0A33-49CD-A067-0A42A5A0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B5F-A6DD-498C-8DF7-4556A344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456-27EE-4E0C-8909-5FB105E1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DFB0-87C7-4657-9310-A9DA1DDFF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chmark #1 Flash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e, Islam, &amp; Africa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juk Tu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mayyad Dynas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dob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ity in Spain for Umayya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q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branches of Isla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ame th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basid Dynas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lim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ST AFRICA IN THE MIDDLE 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ger 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a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-5 detai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a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hara Des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graphic zones in Africa (name the 3 typ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gha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-5 detai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-Saharan Caravan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Goods in West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-5 detai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Tra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sa Mu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ead of Islam to West Africa (How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th of Islam &amp; Arabic (expl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r Speci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kia Muhamm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riarchal (hint: think of “padre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bu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riarchal (hint: think of “madre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th of cities in West Africa (explain how it happen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LANK FLASH CARDS (IN CASE YOU WANT TO CREATE MOR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provided you with a list of terms &amp; ideas that you will need to study for your Benchmar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t out the flash cards &amp; define the words on the back of each car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z yourself by seeing if you can define each word or read the definition and see if you can identify the word it relates 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ISE &amp; FALL OF R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gustus (formerly Octavi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 Re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ise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oclet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lius Caes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que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Sch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Orthodox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Se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x Rom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rmanic tribes (barbari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holic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en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inople (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Roman Empire (Byzantine Empi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 of Rome (Reasons for 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stern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e (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Strengths (What were they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OWTH &amp; SPREAD OF ISL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r’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b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hamm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bri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ang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jr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c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ah (G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d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n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y-Dw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abian Peninsula (Arab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dou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m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Pillars of Isl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8:17:52Z</dcterms:created>
  <dc:creator>Wesley Banh</dc:creator>
  <dc:description/>
  <dc:language>en-US</dc:language>
  <cp:lastModifiedBy>Wesley Banh</cp:lastModifiedBy>
  <dcterms:modified xsi:type="dcterms:W3CDTF">2010-10-27T18:59:01Z</dcterms:modified>
  <cp:revision>4</cp:revision>
  <dc:subject/>
  <dc:title>Benchmark #1 Flash Cards</dc:title>
</cp:coreProperties>
</file>