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1269-BB95-472D-88E2-E04B62834E2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C99D-C70D-4897-9289-D5CC0C3235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4008-01BD-48B7-AAB5-BDA4F6F69F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3046-0033-48F8-A0AF-C6B56E2E46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DA72-C99A-40C2-93A9-71D6DC6A95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66D0-31AF-400C-905B-40B0DFB5FD4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F450-3122-4D0A-A283-D21FF36862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FD20-49BA-4DD1-B433-22124B72B1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251C-5D56-42D2-9796-1F69A59B0E7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897B-C468-4833-8E91-A91FAE0C55C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BDD7-ABCF-4845-9890-BDC99BF5012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047C-3FA7-4E47-BC0B-654973E49A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D904-3A41-4037-AB68-C7F347563D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5934-18A8-4209-A139-E97F6ED49F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78CF-1641-4F74-9138-806AB380B7E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9C76-5A2A-451B-AB59-50486078971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81EF-9120-44FB-9E49-C0FDF4FE622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1643-4DED-4501-A263-4D663D1417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853E-47CA-441D-BC04-BA61C50E90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7B3-B7B8-431C-9A9C-EBF7990C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7DB-86B5-48B2-B42C-0D490FB5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B02-0D82-4351-9786-D2AB828B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499-C981-440D-B84B-C3BFFAEF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97B-262B-4AEB-B23C-2F33869F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526-B54E-479D-8A79-CCE0F8AB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A87-3B9F-4321-92B1-7951B6E6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4E6-0135-41FC-8637-C803B37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B6E-C84A-4E16-8458-2BAC1EAA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D2E-8CFD-424C-956F-153575A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562-26ED-4A44-8FC1-53B172E1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80D-8DB8-4CC5-9C56-4BB22DC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99CE-4CA2-480C-9C2C-1539665C1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chmark #1 Flash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e, Islam, &amp; Africa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juk Tu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ayyad Dyna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dob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ity in Spain for Umayy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q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branches of Isl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ame th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basid Dyna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lim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ST AFRICA IN THE MIDDLE 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ger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-5 detai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a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hara Des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graphic zones in Africa (name the 3 typ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gha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-5 detai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-Saharan Caravan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Goods in West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-5 detai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Tra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sa M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ead of Islam to West Africa (How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of Islam &amp; Arabic (expl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Speci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ia Muham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riarchal (hint: think of “padr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bu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riarchal (hint: think of “madr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of cities in West Africa (explain how it happen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LANK FLASH CARDS (IN CASE YOU WANT TO CREATE MOR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provided you with a list of terms &amp; ideas that you will need to study for your Benchmar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 out the flash cards &amp; define the words on the back of each ca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 yourself by seeing if you can define each word or read the definition and see if you can identify the word it relates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ISE &amp; FALL OF R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us (formerly Octavi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is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oclet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lius Caes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que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Sc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Orthodox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Se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x Rom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manic tribes (barbari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holic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e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inople (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Roman Empire (Byzantine Empi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f Rome (Reasons for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ern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e (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Strengths (What were the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OWTH &amp; SPREAD OF ISL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r’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b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ham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bri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ang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jr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ah (G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2767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600" y="4648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n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2004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28600" y="2362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y-Dw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28600" y="76320"/>
            <a:ext cx="281952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abian Peninsula (Arab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2485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248520" y="2362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dou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248520" y="76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276720" y="4648320"/>
            <a:ext cx="281916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Pillars of 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8:17:52Z</dcterms:created>
  <dc:creator>Wesley Banh</dc:creator>
  <dc:description/>
  <dc:language>en-US</dc:language>
  <cp:lastModifiedBy>Wesley Banh</cp:lastModifiedBy>
  <dcterms:modified xsi:type="dcterms:W3CDTF">2010-10-27T18:59:01Z</dcterms:modified>
  <cp:revision>4</cp:revision>
  <dc:subject/>
  <dc:title>Benchmark #1 Flash Cards</dc:title>
</cp:coreProperties>
</file>