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34E-3379-4684-8F3F-3117C520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1AA-9F9E-4686-B1B5-0E9D54A5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DE9-5F24-4DA8-9DA3-F827D12F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ED7-8D6A-4F6F-8955-DA72B3E6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00E-EF9D-401F-9272-34E0FDEF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25D-782D-47AA-843F-8D1B7485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6B0-74DA-430E-AA5C-A7001F1A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2B4-193F-4D4C-B6B8-1ED62C07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83C-A242-4884-B3D1-47FA0ABE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864-EBF2-4C9B-B264-11D74BF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FEE-F0D1-4A4F-ABFF-56384D29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193-CE46-4090-B3DB-24984FF4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0C66D-9156-4321-A426-11E543180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5C7F1-B352-4811-8446-63BA0D927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 Walls – Medieval Europe &amp; The Renaiss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eval Eur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"/>
          <p:cNvPicPr/>
          <p:nvPr/>
        </p:nvPicPr>
        <p:blipFill>
          <a:blip r:embed="rId1"/>
          <a:stretch/>
        </p:blipFill>
        <p:spPr>
          <a:xfrm>
            <a:off x="-6480" y="1176480"/>
            <a:ext cx="91998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naiss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426960" y="1206360"/>
            <a:ext cx="8266320" cy="5518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7327800" y="1231920"/>
            <a:ext cx="1576440" cy="25048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mbrose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unellesch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rcator (map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22:17:55Z</dcterms:created>
  <dc:creator>Social Studies Teacher</dc:creator>
  <dc:description/>
  <dc:language>en-US</dc:language>
  <cp:lastModifiedBy>Alliance</cp:lastModifiedBy>
  <dcterms:modified xsi:type="dcterms:W3CDTF">2012-03-08T22:38:02Z</dcterms:modified>
  <cp:revision>7</cp:revision>
  <dc:subject/>
  <dc:title>Word Walls – Rome, Islam, Africa</dc:title>
</cp:coreProperties>
</file>