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1FF-1D44-47EB-A572-46B4287B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5FF-44D3-4D76-991E-EAB32FE0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261-0C51-417C-AFCF-B8AAC327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3B7-E1FE-4DF4-8276-F1F2F4BC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EB5-96E0-41EF-B480-619311EC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087-F6EC-4ED0-9A54-FD6A2B7C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146-409A-43E7-BF9C-77FDE54B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974-2B09-4CF0-9C77-583EC970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E11-6246-4F13-B84B-4CC314B6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15AD-802F-4A20-AC52-D4861A8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369-3904-4920-9868-96C87901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966-5DA8-4CC4-AED0-1F034278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E0D38-DEBB-4796-A9E8-1308229F77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5D633-3677-4C0F-893F-83D46D097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 Walls – Medieval Europe &amp; The Renaiss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eval Eur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"/>
          <p:cNvPicPr/>
          <p:nvPr/>
        </p:nvPicPr>
        <p:blipFill>
          <a:blip r:embed="rId1"/>
          <a:stretch/>
        </p:blipFill>
        <p:spPr>
          <a:xfrm>
            <a:off x="-6480" y="1176480"/>
            <a:ext cx="91998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naiss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426960" y="1206360"/>
            <a:ext cx="8266320" cy="5518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7327800" y="1231920"/>
            <a:ext cx="1576440" cy="25048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mbrose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unellesch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rcator (map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22:17:55Z</dcterms:created>
  <dc:creator>Social Studies Teacher</dc:creator>
  <dc:description/>
  <dc:language>en-US</dc:language>
  <cp:lastModifiedBy>Alliance</cp:lastModifiedBy>
  <dcterms:modified xsi:type="dcterms:W3CDTF">2012-03-08T22:38:02Z</dcterms:modified>
  <cp:revision>7</cp:revision>
  <dc:subject/>
  <dc:title>Word Walls – Rome, Islam, Africa</dc:title>
</cp:coreProperties>
</file>