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625-60F2-4B35-B133-EC69A0D7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170-996D-4FD5-A5C9-909A06E6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D40-680D-4F44-904C-D16B092B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1D1-4E42-413F-BA10-8E310B52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D08-CCF9-4AC3-AD44-E1957AD9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0F8-0B90-41E9-B061-1DC31D37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E88-436B-424F-862A-87571C08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291-7F8F-46C5-8192-C4ADCF99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C4B-1CA9-4989-86FF-FC977452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70D-C117-4BA4-8197-2BA7F45A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CA6-92F0-4448-93AA-7BB939E1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E22-88BB-4CEC-BADE-8F325CAE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A466F-6A1D-4A4C-B370-53A9BB2607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216A5-E74F-45FA-9381-0EF86C9C5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 Walls – Medieval Europe &amp; The Renaiss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eval Eur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"/>
          <p:cNvPicPr/>
          <p:nvPr/>
        </p:nvPicPr>
        <p:blipFill>
          <a:blip r:embed="rId1"/>
          <a:stretch/>
        </p:blipFill>
        <p:spPr>
          <a:xfrm>
            <a:off x="-6480" y="1176480"/>
            <a:ext cx="91998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naiss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426960" y="1206360"/>
            <a:ext cx="8266320" cy="5518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7327800" y="1231920"/>
            <a:ext cx="1576440" cy="25048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mbrose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unellesch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ercator (map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22:17:55Z</dcterms:created>
  <dc:creator>Social Studies Teacher</dc:creator>
  <dc:description/>
  <dc:language>en-US</dc:language>
  <cp:lastModifiedBy>Alliance</cp:lastModifiedBy>
  <dcterms:modified xsi:type="dcterms:W3CDTF">2012-03-08T22:38:02Z</dcterms:modified>
  <cp:revision>7</cp:revision>
  <dc:subject/>
  <dc:title>Word Walls – Rome, Islam, Africa</dc:title>
</cp:coreProperties>
</file>