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755E-8509-4126-B783-CE4F2AA88EC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FA66-5716-407B-966B-ED91D504B8F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88BF6-FDA1-4365-83FF-1CEED5C14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65D08-AD9C-444F-AE53-AB7A760A2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4F8CE-C87B-4FCF-BDCE-2F03A8AAE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469B5-F4CE-4734-BBFF-09BCAD2F3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EA0AA-9C32-404E-BAE4-E1F313919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DA04C-939E-4B5B-9FF9-4EBCE0429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7F47-9053-41AC-B78D-0868AA1C8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021A9-9B1F-4677-8835-69A78A1DE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74119-DD32-409B-8A7A-6E3507199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ADD4-5C82-4018-9818-BB502AF24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7669-17EF-420A-BDCA-E7A30D3F7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3029-905D-4416-8685-B696CF8C7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CFE8-7691-40C5-B96C-0219B7A72688}"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4"/>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9144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A</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D</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E</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a:t>
            </a:r>
            <a:r>
              <a:rPr b="1" lang="en-US" sz="1800" spc="-1" strike="noStrike">
                <a:solidFill>
                  <a:srgbClr val="ff9933"/>
                </a:solidFill>
                <a:latin typeface="Times New Roman"/>
              </a:rPr>
              <a:t> F</a:t>
            </a:r>
            <a:endParaRPr b="1" lang="en-US" sz="18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Category C</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6" name="Text Box 3"/>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8" name="Text Box 3"/>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0"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6"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8"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9"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1"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09-12T17:42:13Z</dcterms:modified>
  <cp:revision>20</cp:revision>
  <dc:subject/>
  <dc:title>No Slide Title</dc:title>
</cp:coreProperties>
</file>