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DE76-3F86-4797-B075-B78311FCA39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503F-FA2F-47A8-87C0-407091E747C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E394F-7AAB-4363-9841-5481BDC28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D74F-2BDD-4160-8737-797D937D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BDF66-312A-4DC7-B351-71B297AF8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8C357-CE7C-42C3-AB17-62616AE76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71AB-FBE6-424E-B9A6-C0B3B29D7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FDDB-BCEF-43A6-8B2B-DE6AB46B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F684-3F1E-485F-A474-88683676D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FA1A-51FC-4093-83CE-051928C84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A4FC-B9D4-489F-A1A4-5F52B8448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7E99-2F31-48B8-A7FE-FC485CB7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51D7-5A00-4881-A36C-93733D01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60B3-1ED4-4112-8AB5-FCCBF2088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4342-B6BE-4D2F-9067-C1776498484D}"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1" lang="en-US" sz="18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6"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0"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9"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17:42:13Z</dcterms:modified>
  <cp:revision>20</cp:revision>
  <dc:subject/>
  <dc:title>No Slide Title</dc:title>
</cp:coreProperties>
</file>