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F8D8-62CE-4BE1-AC9C-870FD834EBF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EC58-F7E4-4BD8-A7DA-E0489FF0A03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EC355-C566-4262-9671-AE15394E9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8A60C-ED89-4A86-9A92-62DDF5A42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8ACD9-06B7-455C-8EAD-E30580405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546B8-2BC9-4A7E-80D1-60A954463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F39C5-361A-4FB7-BBE2-9DC3B7760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6FA2F-58B6-421C-8CA6-EBEF72B16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43D1E-AC7F-4CD5-8BD6-AB4051079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CC5ED-FEAB-46A9-99EA-63E039F73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C5584-C1BF-4FCC-BEE0-281DEC427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A1A2-4413-42F7-B3BC-FE4456E18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3A25-106E-40AB-B912-CB6B75E1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1600D-F466-4EF0-A896-A4FCDE928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B923-7F41-4EA8-ACE2-ACE0BED88A3F}"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4"/>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9144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A</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D</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E</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a:t>
            </a:r>
            <a:r>
              <a:rPr b="1" lang="en-US" sz="1800" spc="-1" strike="noStrike">
                <a:solidFill>
                  <a:srgbClr val="ff9933"/>
                </a:solidFill>
                <a:latin typeface="Times New Roman"/>
              </a:rPr>
              <a:t> F</a:t>
            </a:r>
            <a:endParaRPr b="1" lang="en-US" sz="18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Category C</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6" name="Text Box 3"/>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8" name="Text Box 3"/>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0"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6"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8"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9"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1"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09-12T17:42:13Z</dcterms:modified>
  <cp:revision>20</cp:revision>
  <dc:subject/>
  <dc:title>No Slide Title</dc:title>
</cp:coreProperties>
</file>