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EBA5-11EA-4D78-804A-1932B71D5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d Rome stop expanding? A.D. 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DC6C-65F1-4646-B5BC-BF8D43C4C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85D-D48B-4664-B41D-5174E376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AF4D-8284-4551-93D1-2AD264B7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36D-E165-4F14-A8FB-9C5C94B6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B96-54DD-4C86-88E4-68CC3A8A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FF14-C006-4D57-A593-90757A8E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4320-D335-4C43-AE25-F712953C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4FD1-7D9A-4E85-8EF1-3F0183ED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570A-674B-4E66-99C9-88874821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07AD-924E-47DA-A664-4D6619C9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81AC-AD56-458B-BD49-BA188877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F7EF-0288-4D36-A347-384049B9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5D3-C2CD-4387-8C50-5418CDEC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D2D8-D402-4D5A-BAA4-827773F5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9018-92A5-47E2-BB11-B0611A9D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344D-8BF9-4367-AE24-AD4A5854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E267-B326-40DF-9717-87B2DF36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7CEA-3043-42EA-9432-E3379B77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B72C4-739A-48BA-A02E-7C0184D9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1B7A8-A71B-4909-B1B2-7279A53D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6ED09-20D8-4B8F-B701-4A99E595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1C2ED-1708-447E-AF1E-AF943BF8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AFA9A-9995-465E-A084-F7059F66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EDF7-2A8E-4C42-B7AE-F681F5C8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E34C8-2806-4283-9AEF-DF23ABE4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54C63-5EA0-40BA-A28F-6ECCC913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AD7B6-1996-4981-83C4-B478E909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AC7CB-0CB3-402C-B636-93E6ECB5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F637E-F921-40CF-AFB7-04C929DE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38626-68E0-4E2A-A75E-69E84319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36A75-689B-46B7-B1DC-CA675103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813EE-4529-4778-9DC9-7303CA8E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6634B-5AD1-4B52-A205-86950592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0029D-4582-44DF-9E15-0211DED8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7E84-A5A9-49CC-AA65-F944ED2E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41E48-871E-43C7-A4EF-9D744758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3D6C3-2E50-4870-9BC0-C691F5DF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C4C9D-44FE-4E66-92CB-274459E2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93889-6822-4AB9-A651-204334C5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37BC0-B81D-4B62-A3D2-F4FD5744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6C719-24C7-469A-BDB7-4F8E3DF1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BFDD6-C4F9-4EAA-A347-D69D3628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F025F-D746-4DCB-9434-1A567DA0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882F3-68B7-4280-8AAF-F2901D95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F4BA3-C848-476F-B1AB-0666953A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6AC-1F33-4F8F-8A4B-6052252E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C84DB-687E-4150-9848-1AB67C1A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D9768-486B-48D8-B558-E4437F6C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B3D32-A152-4172-BE89-C96EC376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B662E-FD50-4506-A56A-FF8B9BFE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48CBD-C2FA-4DCE-A629-7E8F1270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9473C-1E6C-4E3A-8EE6-0DAC5395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42FF8-496B-4E35-9893-24D9C8FB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26035-C2B8-4F18-90C3-0E0FDD3E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7C6B7-0363-408D-97CA-6CA7A489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3AFBD-44F6-4686-A54A-C85F0711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14A-1252-472D-A56A-42C7A198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0B469-F6F5-4AD1-9BA3-D0DF1A9F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299C-BBDB-4888-BFFF-5F157BA1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A66-DE16-4ADA-BBE5-87F847CD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B369-6860-4D00-B9C5-6F4C1A39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B7B6-5FA1-431B-BC22-27DA4162A616}" type="slidenum">
              <a:rPr b="0" lang="en-US" sz="11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791E-2691-4CA1-80C6-93BB7EC9FDB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7C62-5FE5-4B1E-8C8D-7474453A4E05}" type="slidenum">
              <a:rPr b="0" lang="en-US" sz="11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f39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6752-2EC6-4277-A08D-60C0FCC5547B}" type="slidenum"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7FAA-C35D-41E8-B5B9-CE29EA44CE82}" type="slidenum">
              <a:rPr b="0" lang="en-US" sz="11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084480" y="530280"/>
            <a:ext cx="582156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560"/>
            <a:ext cx="7238880" cy="50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oman expansion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Punic War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rthage vs. Ro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omans won &amp; gained control over Mediterranean Se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Julius Caesar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oman general who made himself dictat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ssassinated (i.e. murdered) by Senate, who feared he would make himself emper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Augustus &amp; the Pax Roman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ugustus: first emper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x Romana: period of peace &amp; stability that lasted almost 200 yea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80876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ideo – “DE – The Pax Romana” (4:10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rebuchet MS"/>
              </a:rPr>
              <a:t>TAKE NOTES </a:t>
            </a: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(I will be calling on students to share what they learned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long did the Pax Romana last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happened during the Pax Romana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en did Rome stop expanding? Why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Rome stopped expanding in 106 C.E. b/c…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else did you learn in the video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80876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rdinary Romans got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New jobs, better housing, free grain (</a:t>
            </a:r>
            <a:r>
              <a:rPr b="1" lang="en-US" sz="2300" spc="-1" strike="noStrike">
                <a:solidFill>
                  <a:srgbClr val="000000"/>
                </a:solidFill>
                <a:latin typeface="Trebuchet MS"/>
              </a:rPr>
              <a:t>the Dole</a:t>
            </a: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), free public bath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Massive building program in Rom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rble from nearby hills for palaces, theaters, shrines, and public bath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3657600" y="0"/>
            <a:ext cx="5486400" cy="4334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4"/>
          <a:stretch/>
        </p:blipFill>
        <p:spPr>
          <a:xfrm>
            <a:off x="0" y="1990800"/>
            <a:ext cx="6496200" cy="4867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5"/>
          <a:stretch/>
        </p:blipFill>
        <p:spPr>
          <a:xfrm>
            <a:off x="3909960" y="3505320"/>
            <a:ext cx="52340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30492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Augustu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(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rebuchet MS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emperor, founded Praetorian guard)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27 BCE - 14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iberi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14-37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ligula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37-41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audi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41-54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ro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54-68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ear of Four Emperor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69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Vespasia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(Founder of Flavian dynasty)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69-79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it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79-81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omitia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81-96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rva (96-98 CE) – became emperor at age 65 &amp; tried to pass reforms in Ro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rajan (98-117 CE) – extended Roman empire to largest siz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drian (117-138 CE) – Hadrian’s Wall in England, Panthe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toninus Pius (138-161 CE) – reign was most peaceful during entire Imperial perio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arcus Aurelius (161-180 CE) – philosopher-k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0120" indent="-223920">
              <a:lnSpc>
                <a:spcPct val="90000"/>
              </a:lnSpc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Death of Marcus Aurelius marks end of Pax Roman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23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Mixed bag” of Roman emperor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6c6c"/>
                </a:solidFill>
                <a:latin typeface="Trebuchet MS"/>
              </a:rPr>
              <a:t>Some attempted to make changes/reforms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imit power of Praetorian Guard, protect borders of empire,  etc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6c6c"/>
                </a:solidFill>
                <a:latin typeface="Trebuchet MS"/>
              </a:rPr>
              <a:t>Others made things worse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stly wars with other peoples, slaughtering innocent people, etc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02:48:16Z</dcterms:created>
  <dc:creator>Wesley Banh</dc:creator>
  <dc:description/>
  <dc:language>en-US</dc:language>
  <cp:lastModifiedBy>Wesley Banh</cp:lastModifiedBy>
  <dcterms:modified xsi:type="dcterms:W3CDTF">2010-09-07T03:45:49Z</dcterms:modified>
  <cp:revision>10</cp:revision>
  <dc:subject/>
  <dc:title>Diocletian &amp; the Division of the Roman Empire</dc:title>
</cp:coreProperties>
</file>