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39B-0944-4E0E-B776-E8393A904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Rome stop expanding? A.D. 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5633-8A2C-4B99-85AC-6628E4447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3D2-3F64-44A0-87C7-A9045C3D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578-7473-4423-B1CA-526BA09A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5D8-D581-4BC5-8A34-C0C7AE22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FF8-520B-4C9C-B912-B6313ED4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799C-5A0C-4BF2-92E8-7A81ED23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A1F-64FB-4E4F-9419-A4B498F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E17-5DA0-4F81-AFA8-BB31CE1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C7A3-B1D4-4BA9-8421-2F735710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87D3-19A2-4992-90FA-1D24DE6A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6E83-4CF5-423A-99B1-54FF5AF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DEB-F117-41A2-8577-B81A6A0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2C6-4AD7-4D3A-9039-668CBA54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CF17-180E-4144-A272-EBF2413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EA90-F35C-4B28-83FE-6B560F1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21C-407A-4932-AC18-1898BEA0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FAA0-1E4C-473B-8936-37CA7D5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B3D0-80BA-4FEC-8BCE-955963CC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3F10-2F55-4DB3-A170-5A936769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3884-506B-4026-BC7F-031C4E5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6686-A20A-4574-A680-D2A5B7D0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F1AA-5003-4B25-B763-B8DA20D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44B7-2F48-4D6A-A489-4D911FD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2B0-49FD-4132-A8BD-12EFD91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73C9-DCD0-4E94-B54B-083606F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4E51-BB6F-4602-91B6-80B8131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0908-400A-4FAD-A6C0-4697EBD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E4C2-4D6A-4BDE-9028-A9E0D2B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2D64-445A-4174-9BE8-9C28D69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561C-CC89-4A11-8F98-03CA6A60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0D63-8C6F-413B-B961-41CB721D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0130-C28C-43DA-848F-E72DAB4A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D5DD-34BC-4223-B4C3-6948F96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0A7B-0254-4477-AC62-5DF7B391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675-01FC-4F54-9360-4D67AB93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7568-2E6E-4181-AB40-F4806F2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5A0E-29CB-457F-8E8E-BC9DA61D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E20F-4D4A-46D3-815D-08A25C1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186D-0CAD-4534-A67D-21EB14E8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1A39-DFB6-4D8C-8CA4-12D0077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BE51-7997-46EE-AE0B-6F715AF6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10AA-83F3-4230-9F2B-678A1D2F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BD12-B5C1-42B6-8B5A-65C34BB9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5CC3-B13B-46B2-AD9D-5224ABC9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64159-15BA-47CC-9DC3-73152AAA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242-7769-445A-A383-7B49B11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0DAC-601C-4B20-A108-37C0654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3BB9-1B95-4D9D-8C6D-E864064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ECCA-9C68-410F-BE06-D2999FCA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67FB-339D-4851-957D-2C2B88E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773D-B701-450F-AEAE-E9DAC6C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9A5D-AD3C-489B-950F-6B9C380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9CE6-A31B-49C1-BFCE-064A942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8CD7-789F-4FFB-B417-3A5D40D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BE8D-BA3B-4518-B0DC-FAA74508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8001-4F71-4084-A091-E2F89C84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014-F896-4B8B-B1E0-561EAFE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EB4D-E0E0-4DB0-8641-01A183CA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6F-C794-4F4B-8A8D-B1C88AE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E55-B522-44BB-8751-4A5E5EB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63D-10C3-4FEE-8FB2-77B4DFB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BC3-B8C9-4C70-B527-A4732AA17D41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BAA-A6A4-45C7-9978-5AA17490505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EE98-32E0-45BD-AFAA-ECC1FB706FFF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39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04D-DAAD-451C-A161-8D38A641318E}" type="slidenum"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064-9B86-4593-8A03-6E3A6D73ED2D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084480" y="530280"/>
            <a:ext cx="582156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560"/>
            <a:ext cx="7238880" cy="50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 expansi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unic Wa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thage vs. Ro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s won &amp; gained control over Mediterranean 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Julius Caesa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 general who made himself dict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assinated (i.e. murdered) by Senate, who feared he would make himself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ugustus &amp; the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gustus: first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x Romana: period of peace &amp; stability that lasted almost 200 ye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– “DE – The Pax Romana” (4:1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AKE NOTES 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(I will be calling on students to share what they learned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long did the Pax Romana la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happened during the Pax Romana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did Rome stop expanding? Wh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Rome stopped expanding in 106 C.E. b/c…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else did you learn in the video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dinary Romans got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New jobs, better housing, free grain (</a:t>
            </a: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he Dole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), free public bath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Massive building program in Rom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ble from nearby hills for palaces, theaters, shrines, and public bath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3657600" y="0"/>
            <a:ext cx="5486400" cy="4334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4"/>
          <a:stretch/>
        </p:blipFill>
        <p:spPr>
          <a:xfrm>
            <a:off x="0" y="1990800"/>
            <a:ext cx="6496200" cy="486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5"/>
          <a:stretch/>
        </p:blipFill>
        <p:spPr>
          <a:xfrm>
            <a:off x="3909960" y="3505320"/>
            <a:ext cx="5234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ugustu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emperor, founded Praetorian guard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27 BCE - 1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ber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14-37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gul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37-4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aud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41-5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o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54-68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ar of Four Emperor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Vespasi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Founder of Flavian dynasty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-7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t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79-8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mitia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81-96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va (96-98 CE) – became emperor at age 65 &amp; tried to pass reforms in Ro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jan (98-117 CE) – extended Roman empire to largest siz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drian (117-138 CE) – Hadrian’s Wall in England, Panthe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nus Pius (138-161 CE) – reign was most peaceful during entire Imperial peri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rcus Aurelius (161-180 CE) – philosopher-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Death of Marcus Aurelius marks end of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2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ixed bag” of Roman empero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Some attempted to make changes/reforms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 power of Praetorian Guard, protect borders of empire, 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Others made things worse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stly wars with other peoples, slaughtering innocent people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3:45:49Z</dcterms:modified>
  <cp:revision>10</cp:revision>
  <dc:subject/>
  <dc:title>Diocletian &amp; the Division of the Roman Empire</dc:title>
</cp:coreProperties>
</file>