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6FEA-EBD7-4D2D-B347-CB0C8258B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694E-EBCB-461A-B36B-66A66ACE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61B7-A616-49A8-AA11-9EEFF9C09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3212-76F4-447F-8596-28ABD77BA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1A174-20E9-4A78-966C-727ED92C1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ECFC-A6E1-4C1B-A466-55A3C4DB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C83B2-6D8F-40C4-8BBA-5A1FAED5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74C24-A9F7-457D-B508-2DABE55C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FE7F-0BA4-4247-BB2F-35DEAA1C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D6F2-890B-4032-B6C0-2ECF24F1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EFD73-24A3-433E-A93D-8C70BD4B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13F6-7313-428D-A732-9D41B422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AB55-BA20-4505-80BB-0310928C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B3E4-232F-4723-9685-CDBF803D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D310-32DC-4AD2-8982-C5983BF2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83EE-30B9-469B-B291-7EB73286C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B0A4-F87B-49E9-8437-7819517EB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6F59F-2222-4ABE-A401-F83E6AEEA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498AA-8295-4665-B1F6-B0C367B2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E45B1-92F7-4720-BF2C-1C42B18E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674F4-0E64-4294-8035-BB940D2F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BC602-33C4-4F20-9EFF-44DBDAC2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421B-75D9-46F6-8732-547A51C8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F24C2-BBB3-4C20-A440-5C5AFD804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EF53A-BC72-47DC-9509-D625EC57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034CE-BA41-4852-9BE9-D3682C6A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AD695-E6E4-40D3-8CB3-0A9B9856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B0C9B-21BC-4BA1-A05B-5ED1891E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9CE6B-BC48-4161-B280-3F95F4B21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CF692-F264-4F4C-9842-674E1D060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B7A4F-A422-4F76-8C31-D316764DE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75DE4-85F5-4F93-8EAB-4CAD09EE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408AB-DF38-4CBB-A241-FB5067AA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5D43-4EEF-4969-B111-EF67C161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243C2-B801-4B24-9A11-7C9CCDEB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1F4B5-5755-457D-B541-B93E6868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31280-C78F-402F-B62E-D2A78937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FDBDE-60BE-42B3-9669-B3A7E010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56D54-C5CF-48D7-837A-73EF1AF5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4585F-CF54-4221-9929-1F6B0ABC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00FA5-5036-45DC-B9E0-B3721218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A0935-7571-44E8-A783-FCF0BD81B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F1803-CF34-4A84-90F4-C08A6134F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47D0-0B1D-4D7D-9875-867067BA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97BA-DEE2-4061-A670-CC97E4E7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2F6E-8D76-4820-9E91-0E489F66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FF45-AC48-48AA-A934-CD0F5B42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E4D8-8B19-47E3-8AC9-B5784813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3491-94F5-41E1-A09E-7E0F5AFF0EE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CF29-BB70-4763-9F1A-2A03A658F5E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433B-BAD8-47F6-ADA5-B9AFA74D07D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8176-20C5-40CE-9DE7-8023834FA80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4848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troductory video clip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 – Ancient Rome’s Decline” (6:11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view of Roman weaknesses &amp; overview of Diocletia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iocletian (284-305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495680" y="1934640"/>
            <a:ext cx="42674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orn a common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ent into military &amp; eventually became commander of emperor’s bodyguar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fter the emperor’s death, the army elected Diocletian empero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5734080" y="228600"/>
            <a:ext cx="3333600" cy="16002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358128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iocletian’s 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Economic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tried reissuing new Roman coins b/c old ones were almost worthl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dn’t work so well b/c not enough gold &amp; silver to support new coi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Socia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made certain jobs (e.g. farmer, soldier, etc.) hereditary b/c of their importance to Roman Empi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Politica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divided Roman Empire into two halves (East &amp; West) &amp; reorganized provin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ligious Persecu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rced Christians to sacrifice to “old gods” or face imprisonment &amp; execu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stroyed Christian churches &amp; holy book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nned Christians from worshipping togeth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iocletian &amp; The Tetrarch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elt empire was too big for one person to contro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vided empire into two halves to be ruled independent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mperors &amp; their deputies moved wherever they were needed instead of being in the capital c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ach deputy was also the heir of the current emper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Content Placeholder 3" descr="Byzantine_Empire_animated.gif"/>
          <p:cNvPicPr/>
          <p:nvPr/>
        </p:nvPicPr>
        <p:blipFill>
          <a:blip r:embed="rId1"/>
          <a:srcRect l="8241" t="0" r="0" b="0"/>
          <a:stretch/>
        </p:blipFill>
        <p:spPr>
          <a:xfrm>
            <a:off x="136440" y="1752480"/>
            <a:ext cx="8702640" cy="4994280"/>
          </a:xfrm>
          <a:prstGeom prst="rect">
            <a:avLst/>
          </a:prstGeom>
          <a:ln w="0">
            <a:noFill/>
          </a:ln>
        </p:spPr>
      </p:pic>
      <p:sp>
        <p:nvSpPr>
          <p:cNvPr id="210" name="TextBox 4"/>
          <p:cNvSpPr/>
          <p:nvPr/>
        </p:nvSpPr>
        <p:spPr>
          <a:xfrm>
            <a:off x="5638680" y="2133720"/>
            <a:ext cx="3124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eror: Dioclet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uty: Galer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5"/>
          <p:cNvSpPr/>
          <p:nvPr/>
        </p:nvSpPr>
        <p:spPr>
          <a:xfrm>
            <a:off x="990720" y="1905120"/>
            <a:ext cx="31240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eror: Maxim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uty: Constant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Down Arrow 6"/>
          <p:cNvSpPr/>
          <p:nvPr/>
        </p:nvSpPr>
        <p:spPr>
          <a:xfrm>
            <a:off x="2590920" y="2743200"/>
            <a:ext cx="838080" cy="99072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55a839"/>
          </a:solidFill>
          <a:ln w="25560">
            <a:solidFill>
              <a:srgbClr val="55a8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Down Arrow 7"/>
          <p:cNvSpPr/>
          <p:nvPr/>
        </p:nvSpPr>
        <p:spPr>
          <a:xfrm>
            <a:off x="6477120" y="3048120"/>
            <a:ext cx="838080" cy="137160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55a839"/>
          </a:solidFill>
          <a:ln w="25560">
            <a:solidFill>
              <a:srgbClr val="55a8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iocletian’s Later Life &amp; Legac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ter lif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tired after 21 years of being emper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ne of the few Roman emperors (after the end of the Pax Romana) to die peacefull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Reforms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de with good intentions, but fail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etrarchy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llapsed after Diocletian’s retire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ivil war broke out &amp; lasted until Constantine the Great reunited both halves of the Roman Empire in 324 C.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02:48:16Z</dcterms:created>
  <dc:creator>Wesley Banh</dc:creator>
  <dc:description/>
  <dc:language>en-US</dc:language>
  <cp:lastModifiedBy>Wesley Banh</cp:lastModifiedBy>
  <dcterms:modified xsi:type="dcterms:W3CDTF">2010-09-07T04:57:10Z</dcterms:modified>
  <cp:revision>17</cp:revision>
  <dc:subject/>
  <dc:title>Diocletian &amp; the Division of the Roman Empire</dc:title>
</cp:coreProperties>
</file>