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ED5-0D29-403A-8F01-79B018ED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C2C-C93F-4E46-A178-A4F4957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2FB-DDFC-4AD7-BF14-A8DB43E6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6A1-5D75-421B-BE01-92FC3AFC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72A6-3E4B-4CEE-B600-6B554C13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C5B-1FDA-4E0B-959F-77C1719C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E22-E182-4AF3-A6DB-A4A5BB3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EADE-A3E3-46A8-988C-1F9C8B0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5E8E-B711-4B37-94DD-6C66548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554F-9401-465C-A0BF-3E4841BC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C1A-56C5-42C8-A6CF-F51BABA6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75F-6C1E-4C48-824B-5EED3B0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8209-64A4-4EC0-B80A-52330B5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FC4F-08E6-4F64-A64C-A7F99A5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71BE-4514-44C2-A416-B1EDAC6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A58-ECA6-4B8D-B56B-EF5B7379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4F45-58A0-4C2A-85C4-EDF5FED5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DFCE-43AD-4D50-865E-CDAA9CE6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59C9-C1E3-4AFC-86E3-00EF77C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DED3-B43B-4872-85B9-9B12491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2865-2F26-4331-9FF6-711FD48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85B0-C263-49BF-84CC-6F275FF2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65A-2BAD-4A2C-A84B-D65B4F81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C2B9-8BE8-483A-A01B-88AD8DB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68BF-8668-4036-ACF0-6745E13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555E-B7B3-463D-9BF3-79A5A0F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624E-4EF1-4558-99D5-B7F2C63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ADA4-0A6C-451C-B840-678EA4BD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A743-4502-4149-BFFE-6FFB050A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20A9-EEDB-474E-828E-2A086FFB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9FC4-7C87-4EA1-9232-E687D12F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EB85-CC42-47A0-A58A-F43F704E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A08B-4042-4C75-8E83-76C0E1F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8E4-1886-45F6-9686-6DCF886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82BE-FC05-4253-9A69-990F405D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CBFC-D8DA-4344-BF09-15726D8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3C53-0FF7-4D2E-A86B-1ED3591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243A-B2CC-4D0A-8F49-BAAFBB0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E761-5DDC-4209-BFF6-1D682A7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6F43-D7C7-4654-8762-31F4B2B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61AC-46E4-4DBF-9214-4D9C2A7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B808-A553-48FF-9803-8F5D40E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2FC7-B990-4C54-95AC-D0E3A9A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62E-45B2-4D7C-9D54-DC537B7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2F5-E115-496A-A8C0-2DE21DE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D9D-FDC6-4AA9-BB65-CEB7EAF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473-53F4-49C1-BBFE-F81CC04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65B-AFB2-45DE-A49E-00F6AFF9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0A0-68A3-4BF9-85D7-08CE4165C7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955-A0A6-46A6-8064-4A97D4C5CA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8DA4-9379-47FE-9F8E-58DE77EA50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CC78-3CEC-4991-A168-9248A86C5F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ory video cli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 – Ancient Rome’s Decline” (6:11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ew of Roman weaknesses &amp; overview of Diocleti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(284-305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495680" y="1934640"/>
            <a:ext cx="4267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rn a common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nt into military &amp; eventually became commander of emperor’s bodygu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fter the emperor’s death, the army elected Diocletian empe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34080" y="228600"/>
            <a:ext cx="333360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581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onom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ried reissuing new Roman coins b/c old ones were almost worthl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dn’t work so well b/c not enough gold &amp; silver to support new co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ci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ade certain jobs (e.g. farmer, soldier, etc.) hereditary b/c of their importance to Roman Emp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olitic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divided Roman Empire into two halves (East &amp; West) &amp; reorganized provi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igious Persec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ced Christians to sacrifice to “old gods” or face imprisonment &amp; exec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troyed Christian churches &amp; holy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nned Christians from worshipping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&amp; The Tet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lt empire was too big for one person to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ided empire into two halves to be ruled independen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erors &amp; their deputies moved wherever they were needed instead of being in the capital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deputy was also the heir of the current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Content Placeholder 3" descr="Byzantine_Empire_animated.gif"/>
          <p:cNvPicPr/>
          <p:nvPr/>
        </p:nvPicPr>
        <p:blipFill>
          <a:blip r:embed="rId1"/>
          <a:srcRect l="8241" t="0" r="0" b="0"/>
          <a:stretch/>
        </p:blipFill>
        <p:spPr>
          <a:xfrm>
            <a:off x="136440" y="1752480"/>
            <a:ext cx="8702640" cy="4994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5638680" y="2133720"/>
            <a:ext cx="312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Diocle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Gale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990720" y="1905120"/>
            <a:ext cx="3124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Maxim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Constan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wn Arrow 6"/>
          <p:cNvSpPr/>
          <p:nvPr/>
        </p:nvSpPr>
        <p:spPr>
          <a:xfrm>
            <a:off x="2590920" y="2743200"/>
            <a:ext cx="838080" cy="9907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wn Arrow 7"/>
          <p:cNvSpPr/>
          <p:nvPr/>
        </p:nvSpPr>
        <p:spPr>
          <a:xfrm>
            <a:off x="6477120" y="3048120"/>
            <a:ext cx="838080" cy="13716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Later Life &amp; Leg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er lif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tired after 21 years of being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e of the few Roman emperors (after the end of the Pax Romana) to die peacefu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form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with good intentions, but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trarchy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psed after Diocletian’s retir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vil war broke out &amp; lasted until Constantine the Great reunited both halves of the Roman Empire in 324 C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4:57:10Z</dcterms:modified>
  <cp:revision>17</cp:revision>
  <dc:subject/>
  <dc:title>Diocletian &amp; the Division of the Roman Empire</dc:title>
</cp:coreProperties>
</file>