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738-DB77-4846-8749-CD91A86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9A5-3AEC-4CA7-9E8F-5B5E6ED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BBE-897F-4F58-83BB-065DDE3B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E71-7C7C-4A37-A0F5-8633CC21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CD8-F48B-4273-AA0D-E1C62154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826-F0CA-4D29-8FE3-DFDA2B6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2AB-509E-4930-B278-B2A310E6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8E4-872D-4ED4-AA81-17FEEA5D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EE3-4106-4320-867D-329DDC02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5C4-96A4-4CD7-9EB3-04BFAEE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9AB-BEC2-499D-A21B-4340981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250-35F0-4392-94BC-B379977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405C-9597-4675-9C8B-B5C5CDC8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68120" y="3456000"/>
            <a:ext cx="8807760" cy="70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924680" y="31240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388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580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51460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339084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267080" y="3147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5143680" y="312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095880" y="3124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972480" y="312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3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13372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dieval Europe Annotated Time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7391520" y="152280"/>
            <a:ext cx="1584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20:21Z</dcterms:created>
  <dc:creator>Wesley</dc:creator>
  <dc:description/>
  <dc:language>en-US</dc:language>
  <cp:lastModifiedBy>Wesley</cp:lastModifiedBy>
  <dcterms:modified xsi:type="dcterms:W3CDTF">2012-01-31T14:28:08Z</dcterms:modified>
  <cp:revision>1</cp:revision>
  <dc:subject/>
  <dc:title>PowerPoint Presentation</dc:title>
</cp:coreProperties>
</file>