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CEA2-04D8-43C2-B7CA-1FD45504FA9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9FC3-2101-4FBA-A695-777DAA4624B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C9AC-8D08-4AB5-9110-B801B2404C1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EA57-B7B4-41F5-B0D5-A04B59A0E53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8843-FCEF-4BF0-BA48-6914770699E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4723-E472-4B62-8607-8B97BBF0757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29E1-39FA-4B1B-979A-3548ADC7757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38BF-A527-400D-9DB0-4D064B90EA8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D931-3E1C-4011-B114-9A6A30EE05A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B7AC-5290-4DA9-80E8-4AEED9713BD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8B99-DB25-4F79-80AB-C27E3DC7E41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6B92-C3F7-4575-916F-568D59EDB90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205E-6BC1-4F96-BA24-C63893915D2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E1E2-0343-489D-8899-F97F5319058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CCA4-66C1-48F6-80AE-B323C0C891C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9BC0-F7F8-4DFF-BEAD-9A983773B86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D5CB-2640-4A84-91F5-3B437A2E43A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0833-9BF5-4809-AEBC-C413EA5F93D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4363-FF6A-4630-948D-C11D32EDBD4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A93A-E699-440B-98BD-7430ED12EF5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1D69-D47F-472B-B442-8B8A2741737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7021-29C8-47E3-AE8C-CBDD3D304F2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59E4-07E0-4B31-9C57-6A62518A501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8BE5-6C36-4964-937E-869512C9CEA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F155-F853-423E-938D-CDBB03610E2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FBDF-ADF0-4B70-B588-07B5A0364E3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BBF9-AD63-425C-983C-85E1DEE252A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8039-20B1-4FAE-B9F8-16781BE951D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D291-960A-4392-B706-DCAD29ABDD4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EACD-0626-42AE-9EC8-13C63C15E07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E352-D455-4EFF-AE44-923F1B5726D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06DF-55C0-40C6-987D-B7EEDDF6E58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6886-90D8-4C02-BAE5-3BEEC021EA0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2E2F-3BD1-4F6D-A6B5-7A9694E2F38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CDB4-9192-4B82-8529-C9CC94913F0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42CA-4E72-44CF-8AE9-F247E0BB94D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113F-8A46-4F19-AC87-9F9071E18A1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F236-173B-47A8-9FBC-5B934780F3C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BD97-1FB3-4EAA-BE3C-B56163328C5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3570-CC7B-4897-AF1C-C82C44691E9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349B-06D1-484A-B363-D95A1EC0AE3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2448-F03C-4FEE-A275-20D6FBF3243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9FBB-0CA4-4B7B-B9C8-B6811B27205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0567-195C-4C48-9A54-A73F969FABF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9BAD-1613-47BB-8C36-EB54D070B56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755E-1145-49D9-8B27-5F0D4B84BB9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2CD6-3F88-4B5E-AB0C-540E1A69390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9C2A-84D7-4B25-B74F-F9C766A894D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B4C4-578C-4EEF-B873-AA2A0FAA5ED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8C28-2E9F-46CE-93D8-2F660A1510E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19DA-5837-4929-AA48-3A30849759E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40D4-CB91-4E0F-A49D-A428ED34D0A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A9B3-EB41-4360-9C0A-67DBB93B475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3C3C-57C8-4A1A-A915-9418945DC6B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940C-0F5A-40E7-8283-BC76A202D46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B562-4056-4F7E-84D0-FA4B3F36466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6F44-217C-460A-B119-CB98E1A232D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DC6B-32E4-49D3-A531-B5E5A19861C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EAF1-5B21-4FA3-9731-5A5040E2730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EC5A-C472-4A96-8F65-FDC5F97A0B7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CCC4-5220-45E8-BA19-0DA5BB33C34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AF49-038B-4126-86C3-0380671B00A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B49E-D297-4603-AB7E-5BA43A139AF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D0EA-3DBD-4B8E-8AEA-783F3F67E3D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6DED-ACAE-4CB3-9966-FFC70148A0A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F36C-94EE-4A09-88FF-4C8D6BC2E63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D0AE-3A78-43ED-B6F9-9A44B78B8F1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53A9-02CB-4E76-97DC-DA977976F88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6173E-0472-46C7-953D-51E8B257E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CC056-B0AC-43DF-8B4D-36A64112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B03D6-92A4-43E3-8229-6C783BA19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07320-150B-4EC3-BA4F-19CA6BAFC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640E-7193-4DE6-A6CF-00783352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86D20-2C17-4C29-B0F8-F1BA7075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E720-2596-453F-A270-2C00FB290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3594-77CD-4558-8404-4FD7DEE6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0D950-9EEC-4936-A44B-A1D6FA0F9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BBD5-F4D8-45F6-9DAC-24157DD5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4A5C-AD17-4307-8548-D2AA3E3A3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9A5C-ED57-4381-BBA1-CE1641EC0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924C-FFE4-4D09-8D1D-64DA21E6096C}"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queduc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35244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us group was persecuted by the Romans until the early 300’s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6094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make their empire easier to govern, Romans organized their lands into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vin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ountry is Rome located 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a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38088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Punic Wars, Rome controlled this body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diterranean S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the Romans give their allies in exchange for soldiers &amp; tax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rot="189600">
            <a:off x="838080" y="304560"/>
            <a:ext cx="7315200" cy="3047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Fall of Ro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Review Ga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6019920" y="5486400"/>
            <a:ext cx="2743200" cy="1219320"/>
          </a:xfrm>
          <a:custGeom>
            <a:avLst/>
            <a:gdLst>
              <a:gd name="textAreaLeft" fmla="*/ 78840 w 2743200"/>
              <a:gd name="textAreaRight" fmla="*/ 2664360 w 2743200"/>
              <a:gd name="textAreaTop" fmla="*/ 78840 h 1219320"/>
              <a:gd name="textAreaBottom" fmla="*/ 1140480 h 1219320"/>
            </a:gdLst>
            <a:ahLst/>
            <a:rect l="textAreaLeft" t="textAreaTop" r="textAreaRight" b="textAreaBottom"/>
            <a:pathLst>
              <a:path w="48587" h="21600">
                <a:moveTo>
                  <a:pt x="0" y="0"/>
                </a:moveTo>
                <a:lnTo>
                  <a:pt x="48587" y="0"/>
                </a:lnTo>
                <a:lnTo>
                  <a:pt x="48587" y="21600"/>
                </a:lnTo>
                <a:lnTo>
                  <a:pt x="0" y="21600"/>
                </a:lnTo>
                <a:close/>
              </a:path>
              <a:path fill="lightenLess" w="48587" h="21600">
                <a:moveTo>
                  <a:pt x="0" y="0"/>
                </a:moveTo>
                <a:lnTo>
                  <a:pt x="48587" y="0"/>
                </a:lnTo>
                <a:lnTo>
                  <a:pt x="47187" y="1400"/>
                </a:lnTo>
                <a:lnTo>
                  <a:pt x="1400" y="1400"/>
                </a:lnTo>
                <a:close/>
              </a:path>
              <a:path fill="darken" w="48587" h="21600">
                <a:moveTo>
                  <a:pt x="48587" y="0"/>
                </a:moveTo>
                <a:lnTo>
                  <a:pt x="48587" y="21600"/>
                </a:lnTo>
                <a:lnTo>
                  <a:pt x="47187" y="20200"/>
                </a:lnTo>
                <a:lnTo>
                  <a:pt x="47187" y="1400"/>
                </a:lnTo>
                <a:close/>
              </a:path>
              <a:path fill="darkenLess" w="48587" h="21600">
                <a:moveTo>
                  <a:pt x="48587" y="21600"/>
                </a:moveTo>
                <a:lnTo>
                  <a:pt x="0" y="21600"/>
                </a:lnTo>
                <a:lnTo>
                  <a:pt x="1400" y="20200"/>
                </a:lnTo>
                <a:lnTo>
                  <a:pt x="47187" y="20200"/>
                </a:lnTo>
                <a:close/>
              </a:path>
              <a:path fill="lighten" w="48587"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ion, Roman laws, &amp; Roman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34596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barbarian general who destroyed the Western Roman Empire in 476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doac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345960"/>
            <a:ext cx="80769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was the event that split Christianity into the Catholic &amp; Orthodox Churche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Great Sch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380880"/>
            <a:ext cx="792504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language spoken by the Romans was the basis for the modern languages of Spanish, French, and Italia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t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38088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lthough persecuted by Romans in the beginning, _______ eventually grew to become one of the world’s major religion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Romans frequently used this construction material in their build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cre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380880"/>
            <a:ext cx="80769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kind of government was created by the Romans? (Hint: NOT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380880"/>
            <a:ext cx="80769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ublic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choosing the officials who govern th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iseum, Hagia Sophia, Pantheon, roads, aqueducts, public bat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examples of Roman architecture (i.e. things they bui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3808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death of Emperor Marcus Aurelius, the _____ ________ came to an e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x Romana (Roman Pea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4954680"/>
            <a:ext cx="80773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What do the arrows represent in the map above?</a:t>
            </a:r>
            <a:endParaRPr b="1" lang="en-US" sz="4400" spc="-1" strike="noStrike">
              <a:solidFill>
                <a:srgbClr val="ff9933"/>
              </a:solidFill>
              <a:latin typeface="Times New Roman"/>
            </a:endParaRPr>
          </a:p>
        </p:txBody>
      </p:sp>
      <p:pic>
        <p:nvPicPr>
          <p:cNvPr id="171" name="Picture 2" descr=""/>
          <p:cNvPicPr/>
          <p:nvPr/>
        </p:nvPicPr>
        <p:blipFill>
          <a:blip r:embed="rId1"/>
          <a:stretch/>
        </p:blipFill>
        <p:spPr>
          <a:xfrm>
            <a:off x="762120" y="109440"/>
            <a:ext cx="7543800" cy="49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into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12952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a large number of slaves and overtaxing the poor led to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rso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lac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Thing</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Problem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n Rom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mperors</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Rome’s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Legac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bellions by slaves &amp; the common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38088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problem with relying on barbarian mercenar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n’t always loyal or reli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hrinking empire &amp; barbarian invasions meant that farmer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3808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ldn’t grow enough food for the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enate killed _______ because they feared he would make himself emper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ulius Caes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38088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Starting with the rule of Emperor _______, Rome enjoyed a period of peace &amp; stability known as the Pax Roman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ugustus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rmerly Octav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emperor divided the Roman Empire in hal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Romans call people who didn’t speak their language or share their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oclet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380880"/>
            <a:ext cx="784872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emperor moved the capital of the Roman Empire east because it was easier to protect and was convenient for trade.</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stant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emperor who made the split between East &amp; West “offici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odosi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Eastern Roman Empire was also known as _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yzantin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happened to the Eastern Empire after the Western Empire fell in 476?</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 continued to survive for another 1,000 yea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group of people were both allies and enemies of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1467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9" name="Text Box 3"/>
          <p:cNvSpPr/>
          <p:nvPr/>
        </p:nvSpPr>
        <p:spPr>
          <a:xfrm>
            <a:off x="762120" y="38088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Romans allow conquered peoples to keep their own customs &amp;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1" name="Text Box 3"/>
          <p:cNvSpPr/>
          <p:nvPr/>
        </p:nvSpPr>
        <p:spPr>
          <a:xfrm>
            <a:off x="762120" y="3808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cause doing so maintained the peace in th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3" name="Text Box 3"/>
          <p:cNvSpPr/>
          <p:nvPr/>
        </p:nvSpPr>
        <p:spPr>
          <a:xfrm>
            <a:off x="609480" y="380880"/>
            <a:ext cx="807732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ich provinces were Romans strictest with? </a:t>
            </a:r>
            <a:endParaRPr b="1" lang="en-US" sz="60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loyal</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rebelling or being invaded</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didn’t grow crop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5"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nes that were rebelling or being invad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7"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reasons that helped cause the Roman Empire’s downf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2" name="Text Box 3"/>
          <p:cNvSpPr/>
          <p:nvPr/>
        </p:nvSpPr>
        <p:spPr>
          <a:xfrm>
            <a:off x="685800" y="366840"/>
            <a:ext cx="7848720" cy="72493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rebellions, not enough money, slavery, corrup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380880"/>
            <a:ext cx="7467480" cy="62776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 helped:</a:t>
            </a:r>
            <a:endParaRPr b="1" lang="en-US" sz="72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Legions travel fast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onnect the Empire togeth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mprove trad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ved Stone Ro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3808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let Romans carry water to their cities from the countrys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22:02:16Z</dcterms:modified>
  <cp:revision>34</cp:revision>
  <dc:subject/>
  <dc:title>No Slide Title</dc:title>
</cp:coreProperties>
</file>