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DE04-3792-48D5-84D0-3347A312C6F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B848-9044-42EB-B95B-070302EAEBD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73F4-FEB9-4451-A6F6-C41AC4816FB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2723-0E4B-4C4E-9B8D-AA3A1933499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6E99-3492-4018-8A7C-EE91B568E6C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3B37-BECB-4603-B59A-6502775C387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E100-B2CD-44EB-9350-A513C9BE8AB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E0C3-3DEC-41AF-A11A-B19AB877A24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42B3-7A7F-40BA-A142-77F3BBC4484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2BAA-FCB4-431D-B3AB-90A60838EEB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187B-7FF0-4E70-880E-29C41B7D3A2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010E-64C8-494E-809C-F437C5299AB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005D-0E7C-409B-A480-B7089F8E1CA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0E0B-DCE7-4FF7-A8E5-9C66F060C29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6341-8A5B-4E3D-A4A8-C454F3E0046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B57A-034E-471F-8CA6-A9BEC3C0385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CA3A-44BD-41F3-B457-7651472F885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C858-391F-4578-8A84-9ED4A7531ED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5849-76D2-4E2C-A9D7-212D9087F74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B152-154C-496F-B136-A17DBB0EE5A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39CC-A720-4354-B833-127B786EE18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7F38-9C78-4D75-AF36-C1F6D4FF87A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C007-8724-4460-B6B1-860A6CB66B8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9CD4-CC5D-41E2-9566-61D63FE4398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CC3A-F29F-423C-BA8D-3B1B8537B8B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E4FC-323C-450D-BBD6-8B0D09EA20A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0D57-5858-4D1E-99CF-0D6F7CEDEA1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71CE-8B22-4D50-BC4A-30A701B2778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EA40-CF56-4930-BD0D-88F180E1223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05B6-590E-4188-8A75-A9B95028CD8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B2B9-0E65-44B1-A77E-F3138987067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5AFB-9A63-40B8-A5A3-A8AC90C0F74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494E-FABC-411B-9DCF-E6A56DA68CC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21D7-2C53-4785-846E-9B01CD3FA48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F2C8-9DCE-4AA9-9C1A-DFE3A243681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53F6-1DDE-405B-88F5-E8CD7AA3D4B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A025-8FEF-4B1D-9596-239CE78A3ED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54F6-85D7-4A97-86F8-F3546DBAA6E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059D-8C1B-450D-8C89-04B30C29255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D151-F06F-4C74-88E7-D7E25CE223D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01F6-F337-4D20-8BCC-92BD5C347DB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26E7-A746-4AA0-BD59-62A91C4F499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8597-0614-4438-A3E7-DE8BA20DBA0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2BF2-EF2D-4453-BCA0-F13A2B2F190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71E9-09CA-45B3-AFC9-2783D6B063E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DC2B-074A-4F94-86A8-05912CD93F2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FE6B-741D-45BA-97D1-22F85DB86A9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9933-6836-49D0-B20D-6AE12B1FFB8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367B-5653-4754-8D00-8F6325DCFF5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FCCB-5663-4D96-85C3-DD5EEE894E6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AB16-B9BA-4DED-8BC7-CA7102E3663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1B29-0B4D-42EC-8D9C-335C080A8F4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9323-D246-4B58-8359-4EEF75FB49D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8C00-5B28-446E-927A-A28B5572FA0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D9E3-409E-4224-92D2-121EBB3E666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D3BA-212C-484B-97CA-2995A1921AF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E3DF-58A1-4EAB-868C-927D90D1876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C615-6C87-4A37-8E8B-99474524569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CD5D-C1B5-4726-B973-15E2344F7F2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060C-64BF-4434-8737-5A38F611046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B068-94C8-4401-9282-F8727F6FDE2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A928-C93D-4B1C-9179-16E75287673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45F9-1128-4BBF-9A58-373D9295770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827B-9270-4F5B-B77A-A1393C4B6F1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1DC6-DDA2-4EDC-87CF-1537B1AB76C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892E-26EE-43A1-BEF6-0485559D24A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3A6F-26E4-48A4-A696-E756073C6EB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8DF6-41F0-4AE7-8C83-A031C728116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CB95F-5CCE-49FA-AE2C-9AE132820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D77B9-C2CB-47CF-B3BB-8E3B6F6B2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93497-C844-4224-937F-F54EA0A85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A6BF1-A205-43EB-A633-B44162BF2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F3662-BBD3-4ADE-8864-1834BD575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0BEC1-7BE7-4CD7-AD32-4BDCA7D85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2A5A0-ED17-4497-B831-EDF34D4BC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9013D-8BAF-4E0B-AD80-AA5D0883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D0E8F-F535-4535-ADCA-C5DE2830C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E7BC-F9D7-4677-B37F-16045C72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7401-2D4E-4F96-A646-8DD122FAF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B2EE-D2A7-49A3-9D27-0BE4F3068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3A5C-8936-40D8-925B-B0B55456F848}"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Relationship Id="rId3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queduc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35244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eligious group was persecuted by the Romans until the early 300’s 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ist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60948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make their empire easier to govern, Romans organized their lands into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vin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country is Rome located 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a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38088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Punic Wars, Rome controlled this body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diterranean Se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3808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the Romans give their allies in exchange for soldiers &amp; tax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rot="189600">
            <a:off x="838080" y="304560"/>
            <a:ext cx="7315200" cy="30477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208000"/>
                </a:gradFill>
                <a:latin typeface="Impact"/>
              </a:rPr>
              <a:t>Fall of Rome</a:t>
            </a:r>
            <a:endParaRPr b="1" lang="en-US" sz="2400" spc="1" strike="noStrike">
              <a:ln w="9360">
                <a:solidFill>
                  <a:srgbClr val="000000"/>
                </a:solidFill>
                <a:miter/>
              </a:ln>
              <a:gradFill rotWithShape="0">
                <a:gsLst>
                  <a:gs pos="0">
                    <a:srgbClr val="ffe701"/>
                  </a:gs>
                  <a:gs pos="100000">
                    <a:srgbClr val="fe3e02"/>
                  </a:gs>
                </a:gsLst>
                <a:lin ang="5208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208000"/>
                </a:gradFill>
                <a:latin typeface="Impact"/>
              </a:rPr>
              <a:t>Review Game</a:t>
            </a:r>
            <a:endParaRPr b="1" lang="en-US" sz="2400" spc="1" strike="noStrike">
              <a:ln w="9360">
                <a:solidFill>
                  <a:srgbClr val="000000"/>
                </a:solidFill>
                <a:miter/>
              </a:ln>
              <a:gradFill rotWithShape="0">
                <a:gsLst>
                  <a:gs pos="0">
                    <a:srgbClr val="ffe701"/>
                  </a:gs>
                  <a:gs pos="100000">
                    <a:srgbClr val="fe3e02"/>
                  </a:gs>
                </a:gsLst>
                <a:lin ang="5208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6019920" y="5486400"/>
            <a:ext cx="2743200" cy="1219320"/>
          </a:xfrm>
          <a:custGeom>
            <a:avLst/>
            <a:gdLst>
              <a:gd name="textAreaLeft" fmla="*/ 78840 w 2743200"/>
              <a:gd name="textAreaRight" fmla="*/ 2664360 w 2743200"/>
              <a:gd name="textAreaTop" fmla="*/ 78840 h 1219320"/>
              <a:gd name="textAreaBottom" fmla="*/ 1140480 h 1219320"/>
            </a:gdLst>
            <a:ahLst/>
            <a:rect l="textAreaLeft" t="textAreaTop" r="textAreaRight" b="textAreaBottom"/>
            <a:pathLst>
              <a:path w="48587" h="21600">
                <a:moveTo>
                  <a:pt x="0" y="0"/>
                </a:moveTo>
                <a:lnTo>
                  <a:pt x="48587" y="0"/>
                </a:lnTo>
                <a:lnTo>
                  <a:pt x="48587" y="21600"/>
                </a:lnTo>
                <a:lnTo>
                  <a:pt x="0" y="21600"/>
                </a:lnTo>
                <a:close/>
              </a:path>
              <a:path fill="lightenLess" w="48587" h="21600">
                <a:moveTo>
                  <a:pt x="0" y="0"/>
                </a:moveTo>
                <a:lnTo>
                  <a:pt x="48587" y="0"/>
                </a:lnTo>
                <a:lnTo>
                  <a:pt x="47187" y="1400"/>
                </a:lnTo>
                <a:lnTo>
                  <a:pt x="1400" y="1400"/>
                </a:lnTo>
                <a:close/>
              </a:path>
              <a:path fill="darken" w="48587" h="21600">
                <a:moveTo>
                  <a:pt x="48587" y="0"/>
                </a:moveTo>
                <a:lnTo>
                  <a:pt x="48587" y="21600"/>
                </a:lnTo>
                <a:lnTo>
                  <a:pt x="47187" y="20200"/>
                </a:lnTo>
                <a:lnTo>
                  <a:pt x="47187" y="1400"/>
                </a:lnTo>
                <a:close/>
              </a:path>
              <a:path fill="darkenLess" w="48587" h="21600">
                <a:moveTo>
                  <a:pt x="48587" y="21600"/>
                </a:moveTo>
                <a:lnTo>
                  <a:pt x="0" y="21600"/>
                </a:lnTo>
                <a:lnTo>
                  <a:pt x="1400" y="20200"/>
                </a:lnTo>
                <a:lnTo>
                  <a:pt x="47187" y="20200"/>
                </a:lnTo>
                <a:close/>
              </a:path>
              <a:path fill="lighten" w="48587"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tection, Roman laws, &amp; Roman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533520" y="34596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barbarian general who destroyed the Western Roman Empire in 476 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doac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533520" y="345960"/>
            <a:ext cx="80769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was the event that split Christianity into the Catholic &amp; Orthodox Churche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Great Schis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09480" y="380880"/>
            <a:ext cx="792504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language spoken by the Romans was the basis for the modern languages of Spanish, French, and Italia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at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4"/>
          <p:cNvSpPr/>
          <p:nvPr/>
        </p:nvSpPr>
        <p:spPr>
          <a:xfrm>
            <a:off x="609480" y="38088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lthough persecuted by Romans in the beginning, _______ eventually grew to become one of the world’s major religion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istia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3808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Romans frequently used this construction material in their buildi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ncre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533520" y="380880"/>
            <a:ext cx="80769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kind of government was created by the Romans? (Hint: NOT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380880"/>
            <a:ext cx="807696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public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choosing the officials who govern th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533520" y="3808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liseum, Hagia Sophia, Pantheon, roads, aqueducts, public bath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533520" y="3808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examples of Roman architecture (i.e. things they bui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38088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death of Emperor Marcus Aurelius, the _____ ________ came to an e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x Romana (Roman Pea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4954680"/>
            <a:ext cx="80773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What do the arrows represent in the map above?</a:t>
            </a:r>
            <a:endParaRPr b="1" lang="en-US" sz="4400" spc="-1" strike="noStrike">
              <a:solidFill>
                <a:srgbClr val="ff9933"/>
              </a:solidFill>
              <a:latin typeface="Times New Roman"/>
            </a:endParaRPr>
          </a:p>
        </p:txBody>
      </p:sp>
      <p:pic>
        <p:nvPicPr>
          <p:cNvPr id="171" name="Picture 2" descr=""/>
          <p:cNvPicPr/>
          <p:nvPr/>
        </p:nvPicPr>
        <p:blipFill>
          <a:blip r:embed="rId1"/>
          <a:stretch/>
        </p:blipFill>
        <p:spPr>
          <a:xfrm>
            <a:off x="762120" y="109440"/>
            <a:ext cx="7543800" cy="49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 invasions into the Roman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12952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ving a large number of slaves and overtaxing the poor led to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rso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lac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Thing</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Problem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in Rome</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Emperors</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Rome’s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Legacy</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bellions by slaves &amp; the common peo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38088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problem with relying on barbarian mercenari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44792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weren’t always loyal or reli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09480" y="380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hrinking empire &amp; barbarian invasions meant that farmers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3808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uldn’t grow enough food for the peo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8580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enate killed _______ because they feared he would make himself emper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Julius Caes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533520" y="380880"/>
            <a:ext cx="807696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Starting with the rule of Emperor _______, Rome enjoyed a period of peace &amp; stability known as the Pax Romana.</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1371600"/>
            <a:ext cx="80769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ugustus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ormerly Octavi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emperor divided the Roman Empire in hal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380880"/>
            <a:ext cx="75438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Romans call people who didn’t speak their language or share their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ocleti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09480" y="380880"/>
            <a:ext cx="784872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emperor moved the capital of the Roman Empire east because it was easier to protect and was convenient for trade.</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nstant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emperor who made the split between East &amp; West “offici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odosi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09480" y="380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Eastern Roman Empire was also known as __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Byzantine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1" name="Text Box 3"/>
          <p:cNvSpPr/>
          <p:nvPr/>
        </p:nvSpPr>
        <p:spPr>
          <a:xfrm>
            <a:off x="762120" y="380880"/>
            <a:ext cx="75438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happened to the Eastern Empire after the Western Empire fell in 476?</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3" name="Text Box 3"/>
          <p:cNvSpPr/>
          <p:nvPr/>
        </p:nvSpPr>
        <p:spPr>
          <a:xfrm>
            <a:off x="762120" y="17524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 continued to survive for another 1,000 yea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5" name="Text Box 3"/>
          <p:cNvSpPr/>
          <p:nvPr/>
        </p:nvSpPr>
        <p:spPr>
          <a:xfrm>
            <a:off x="60948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group of people were both allies and enemies of the Roman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09480" y="14670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9" name="Text Box 3"/>
          <p:cNvSpPr/>
          <p:nvPr/>
        </p:nvSpPr>
        <p:spPr>
          <a:xfrm>
            <a:off x="762120" y="380880"/>
            <a:ext cx="76197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Romans allow conquered peoples to keep their own customs &amp;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1" name="Text Box 3"/>
          <p:cNvSpPr/>
          <p:nvPr/>
        </p:nvSpPr>
        <p:spPr>
          <a:xfrm>
            <a:off x="762120" y="3808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cause doing so maintained the peace in the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3" name="Text Box 3"/>
          <p:cNvSpPr/>
          <p:nvPr/>
        </p:nvSpPr>
        <p:spPr>
          <a:xfrm>
            <a:off x="609480" y="380880"/>
            <a:ext cx="807732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ich provinces were Romans strictest with? </a:t>
            </a:r>
            <a:endParaRPr b="1" lang="en-US" sz="60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were loyal</a:t>
            </a:r>
            <a:endParaRPr b="1" lang="en-US" sz="54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were rebelling or being invaded</a:t>
            </a:r>
            <a:endParaRPr b="1" lang="en-US" sz="54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didn’t grow crop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5"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nes that were rebelling or being invad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7"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8"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0"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reasons that helped cause the Roman Empire’s downf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2" name="Text Box 3"/>
          <p:cNvSpPr/>
          <p:nvPr/>
        </p:nvSpPr>
        <p:spPr>
          <a:xfrm>
            <a:off x="685800" y="366840"/>
            <a:ext cx="7848720" cy="72493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 invasions, rebellions, not enough money, slavery, corruptio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380880"/>
            <a:ext cx="7467480" cy="62776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 helped:</a:t>
            </a:r>
            <a:endParaRPr b="1" lang="en-US" sz="72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Legions travel faster</a:t>
            </a:r>
            <a:endParaRPr b="1" lang="en-US" sz="60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onnect the Empire together</a:t>
            </a:r>
            <a:endParaRPr b="1" lang="en-US" sz="60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mprove trad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ved Stone Ro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38088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let Romans carry water to their cities from the countrysi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09-12T22:02:16Z</dcterms:modified>
  <cp:revision>34</cp:revision>
  <dc:subject/>
  <dc:title>No Slide Title</dc:title>
</cp:coreProperties>
</file>