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ECFA-9C47-4187-A06A-405C8E3B3D3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6385-B56E-40A3-99DB-50314A63861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C1FBA-F63C-431C-A46A-AB0A0FE5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CFF3-5AA6-4CED-B977-9AC0B5BB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21342-22B1-400D-AD3B-DA60B6D44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0DA98-EB29-4ECD-A85B-BA3923FFB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6D42-9604-47EE-83D5-4FCA7340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24A2-67A1-4010-B872-2EE5DB9E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9E08B-9E2D-46DE-88FB-6B6FA1ADB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4090-A090-490C-91DF-F47539CD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7D97-3FBA-44AF-8BD9-3BE1721D8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FB7AB-5BA3-49D9-A1B0-54BF95EE7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9450-532C-4DCB-8954-D0B3842AE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01B9-B394-4DFF-861E-A94221AC5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D898-B54A-4172-A895-EA5B9086EF93}"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rb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meaning of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istory &amp; culture passed down through spok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labor specialization” &amp; explain its impor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533520" y="60948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efinition</a:t>
            </a:r>
            <a:r>
              <a:rPr b="0" lang="en-US" sz="6000" spc="-1" strike="noStrike">
                <a:solidFill>
                  <a:srgbClr val="ff9933"/>
                </a:solidFill>
                <a:latin typeface="Times New Roman"/>
              </a:rPr>
              <a:t>: People doing specific jobs</a:t>
            </a:r>
            <a:br>
              <a:rPr sz="6000"/>
            </a:br>
            <a:r>
              <a:rPr b="1" lang="en-US" sz="6000" spc="-1" strike="noStrike">
                <a:solidFill>
                  <a:srgbClr val="ff9933"/>
                </a:solidFill>
                <a:latin typeface="Times New Roman"/>
              </a:rPr>
              <a:t>Importance</a:t>
            </a:r>
            <a:r>
              <a:rPr b="0" lang="en-US" sz="6000" spc="-1" strike="noStrike">
                <a:solidFill>
                  <a:srgbClr val="ff9933"/>
                </a:solidFill>
                <a:latin typeface="Times New Roman"/>
              </a:rPr>
              <a:t>: people focused on 1 job instead of trying to do everything</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two trade goods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amp; sa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762120" y="457200"/>
            <a:ext cx="7696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rPr>
              <a:t>This map shows the spread of what religion?</a:t>
            </a:r>
            <a:endParaRPr b="1" lang="en-US" sz="5400" spc="-1" strike="noStrike">
              <a:solidFill>
                <a:srgbClr val="ff9933"/>
              </a:solidFill>
              <a:latin typeface="Times New Roman"/>
            </a:endParaRPr>
          </a:p>
        </p:txBody>
      </p:sp>
      <p:pic>
        <p:nvPicPr>
          <p:cNvPr id="131" name="Picture 4" descr=""/>
          <p:cNvPicPr/>
          <p:nvPr/>
        </p:nvPicPr>
        <p:blipFill>
          <a:blip r:embed="rId1"/>
          <a:stretch/>
        </p:blipFill>
        <p:spPr>
          <a:xfrm>
            <a:off x="1219320" y="2209680"/>
            <a:ext cx="69339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0666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from _____ Africa was traded for salt from ____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st, Nor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iver passed through the empires of Ghana, 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iger Ri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8580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significance of the Trans-Saharan Caravan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de Ghana/Mali wealthy, spread new ideas/religions to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4665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Put in order (1</a:t>
            </a:r>
            <a:r>
              <a:rPr b="0" lang="en-US" sz="6000" spc="-1" strike="noStrike" baseline="30000">
                <a:solidFill>
                  <a:srgbClr val="ff9933"/>
                </a:solidFill>
                <a:latin typeface="Times New Roman"/>
              </a:rPr>
              <a:t>st</a:t>
            </a:r>
            <a:r>
              <a:rPr b="0" lang="en-US" sz="6000" spc="-1" strike="noStrike">
                <a:solidFill>
                  <a:srgbClr val="ff9933"/>
                </a:solidFill>
                <a:latin typeface="Times New Roman"/>
              </a:rPr>
              <a:t>-last)</a:t>
            </a:r>
            <a:br>
              <a:rPr sz="6000"/>
            </a:br>
            <a:r>
              <a:rPr b="0" lang="en-US" sz="6000" spc="-1" strike="noStrike">
                <a:solidFill>
                  <a:srgbClr val="ff9933"/>
                </a:solidFill>
                <a:latin typeface="Times New Roman"/>
              </a:rPr>
              <a:t>- Songhai</a:t>
            </a:r>
            <a:br>
              <a:rPr sz="6000"/>
            </a:br>
            <a:r>
              <a:rPr b="0" lang="en-US" sz="6000" spc="-1" strike="noStrike">
                <a:solidFill>
                  <a:srgbClr val="ff9933"/>
                </a:solidFill>
                <a:latin typeface="Times New Roman"/>
              </a:rPr>
              <a:t>- Ghana</a:t>
            </a:r>
            <a:br>
              <a:rPr sz="6000"/>
            </a:br>
            <a:r>
              <a:rPr b="0" lang="en-US" sz="6000" spc="-1" strike="noStrike">
                <a:solidFill>
                  <a:srgbClr val="ff9933"/>
                </a:solidFill>
                <a:latin typeface="Times New Roman"/>
              </a:rPr>
              <a:t>- Mali</a:t>
            </a:r>
            <a:br>
              <a:rPr sz="6000"/>
            </a:b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hana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Mali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4"/>
          <p:cNvSpPr/>
          <p:nvPr/>
        </p:nvSpPr>
        <p:spPr>
          <a:xfrm>
            <a:off x="609480" y="13716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kingdom extended trade routes from the Sahara to Egyp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most famous king of 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sa Mus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Ghana grow wealthy and become a trade cen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y controlling the gold-salt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392040"/>
            <a:ext cx="80769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ich of the following empires were Muslim?</a:t>
            </a:r>
            <a:br>
              <a:rPr sz="6600"/>
            </a:br>
            <a:r>
              <a:rPr b="0" lang="en-US" sz="6600" spc="-1" strike="noStrike">
                <a:solidFill>
                  <a:srgbClr val="ff9933"/>
                </a:solidFill>
                <a:latin typeface="Times New Roman"/>
              </a:rPr>
              <a:t>Ghana</a:t>
            </a:r>
            <a:br>
              <a:rPr sz="6600"/>
            </a:br>
            <a:r>
              <a:rPr b="0" lang="en-US" sz="6600" spc="-1" strike="noStrike">
                <a:solidFill>
                  <a:srgbClr val="ff9933"/>
                </a:solidFill>
                <a:latin typeface="Times New Roman"/>
              </a:rPr>
              <a:t>Mali</a:t>
            </a:r>
            <a:br>
              <a:rPr sz="6600"/>
            </a:br>
            <a:r>
              <a:rPr b="0" lang="en-US" sz="6600" spc="-1" strike="noStrike">
                <a:solidFill>
                  <a:srgbClr val="ff9933"/>
                </a:solidFill>
                <a:latin typeface="Times New Roman"/>
              </a:rPr>
              <a:t>Songha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fore the arrival of Islam, West Africa did not have 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gri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ryteller or  “village libr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463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ritten language was eventually used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ade &a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ography</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ultur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 in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st Africa</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hana,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Mali, &amp;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Songhai</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609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4479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people in West Africa end up with a 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de with Muslims in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were griots important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922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eserved history &amp; culture of West African villages; gave advice to k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4636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n spread to West Africa from the Middle East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685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o brought Islam to West Africa? Ho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rber nomads, through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5335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As Islam grew in West Africa, its society became more _______ (men were in char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ravans</a:t>
            </a:r>
            <a:r>
              <a:rPr b="0" lang="en-US" sz="7200" spc="-1" strike="noStrike">
                <a:solidFill>
                  <a:srgbClr val="ff9933"/>
                </a:solidFill>
                <a:latin typeface="Times New Roman"/>
              </a:rPr>
              <a:t> were 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6094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P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In addition to being part of their oral traditions, songs and dances also served what purp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connections with the “spirit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at was the traditional religion of West Africa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5335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Had spirits (ancestor, nature, good/evil) &amp; diviners, and used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as salt located in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Sahara Dese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8380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in Mali was a center of trade &amp; Islamic lear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buktu</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m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13716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s of people traveling together (usually for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228600"/>
            <a:ext cx="7772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Women were in charge</a:t>
            </a:r>
            <a:endParaRPr b="1" lang="en-US" sz="6000" spc="-1" strike="noStrike">
              <a:solidFill>
                <a:srgbClr val="ff9933"/>
              </a:solidFill>
              <a:latin typeface="Times New Roman"/>
            </a:endParaRPr>
          </a:p>
        </p:txBody>
      </p:sp>
      <p:pic>
        <p:nvPicPr>
          <p:cNvPr id="218" name="Picture 2" descr=""/>
          <p:cNvPicPr/>
          <p:nvPr/>
        </p:nvPicPr>
        <p:blipFill>
          <a:blip r:embed="rId1"/>
          <a:stretch/>
        </p:blipFill>
        <p:spPr>
          <a:xfrm>
            <a:off x="1066680" y="1322280"/>
            <a:ext cx="7162920" cy="500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838080"/>
            <a:ext cx="76197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y were Muslim traders &amp; scholars attracted to the city of Timbuktu in Mal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685800"/>
            <a:ext cx="76197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They saw &amp; were impressed by the riches Mansa Musa had on his pilgrimage to Mecc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53352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sides West Africa, name two areas influenced by Islam (hint: think back to the last un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iddle East (Arabia)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609480"/>
            <a:ext cx="7848720" cy="6650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Compare &amp; contrast West Africa before &amp; after Islam (3 similarities &amp; 3 differenc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No partial credi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8380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refers to family connections or relationshi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in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6094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were nomads from North Africa who traded with Gha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24T22:37:26Z</dcterms:modified>
  <cp:revision>40</cp:revision>
  <dc:subject/>
  <dc:title>No Slide Title</dc:title>
</cp:coreProperties>
</file>