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082088" cy="685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4D08-6D1F-49DE-999E-43B0FCAA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E3E-5F0F-4815-869E-5BC8415E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C4D-D068-45F1-9DC8-9F6E0F9F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85B-7588-4129-9A20-2B1168F9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5146-BD4B-45F6-B0E6-D776DEB9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BED-8496-4C48-8AF6-6A6F886B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F37-B079-4EBF-984C-B1562922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C00A-EE9B-4CB3-8D7C-659A99DD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690-5062-4FFC-BAD2-045D4308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D34-056E-4EFC-9FF7-8CE8C372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A9E-2B5A-4681-8A6E-F2EF2CFC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2BB-CDF4-4F1D-850D-B45F6A62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B734-7F7A-4418-8B0B-2023DEF5A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Byzantine Emp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the Fall of Ro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yzantine Empire Weak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asions (Arabs, Turks, Russians, Crusader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gnored own military &amp; relied on mercen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usades (Sack of Constantinople in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rusa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vil w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emper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87440" y="457200"/>
            <a:ext cx="835164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wnfall &amp; Leg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1784520"/>
            <a:ext cx="77724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l of Constantinople (145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hmed II &amp; Ottoman Turks laid siege to 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ke through walls using cann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antine XI (last Byzantine Emperor) died defending 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acy of Byzantine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ed Western Europe from eastern invaders [for a time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luences on art, architecture, &amp; religion still seen to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 Fall of Ro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040" y="17845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stern Roman Empire weakened b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doac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barbarian general) invades Rome &amp; makes self king in 476 C.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96216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: Inside Byzant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4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religions or cultures did the Byzantine Empire borrow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the capital of the Byzantine Empi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the Hagia Soph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ntry was later influenced by the Byzantine Empi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ere the Crusad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defeated the Byzantine Empire and wh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1784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n Roman Empi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zantine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yzanti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 – from city of Byzant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named Constantinople by Constantine (300’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r renamed Istanbul by Turks (after 145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icial language: Gr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n: Orthodox Christia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e: blend of Greek, Roman, Pers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antine (ruled ~306-33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united Roman Empire after defeating Western Roman Empe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ed to Christianity &amp; stopped persecuting Christ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d capital to Constantin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ed reforms in 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, more stable money (the solid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organized government &amp; milit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antin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capital of Empire founded by Constantine because it w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to def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ted along many trade ro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ide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Engineering an Empire – Byzantines (12:50-20: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rly known 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yzantiu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ly known 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tanb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dosius (378-39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t emperor to “officially” rule over both halves of 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Christianity official religion of 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sed laws agains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ag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i.e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n-Christi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reli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a saint Orthodox Christia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stinian (527-56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ried Theodora (burlesque danc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ecuted non-Christians &amp; passed “morality law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ed to reconquer western part of Roman Empi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ised taxes &amp; “squeezed” people fo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rioted in Hippodrome, Theodora persuaded Justinian not to flee, &amp; put down reb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stinian (527-56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litary conquests successful, but also bankrupted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gia Soph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“Church of Holy Wisdo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pus Juris Civilis (Code of Justinian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on of laws written during Roman Emp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is of modern civil law (written &amp; collected law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5:19:55Z</dcterms:created>
  <dc:creator>Wesley Banh</dc:creator>
  <dc:description/>
  <dc:language>en-US</dc:language>
  <cp:lastModifiedBy>Wesley Banh</cp:lastModifiedBy>
  <dcterms:modified xsi:type="dcterms:W3CDTF">2010-09-13T05:24:40Z</dcterms:modified>
  <cp:revision>3</cp:revision>
  <dc:subject/>
  <dc:title>The Byzantine Empire</dc:title>
</cp:coreProperties>
</file>