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9082088" cy="6854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2C30-0A37-43B5-8897-6B83EEF46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332E-B35E-49CD-8CB6-3DD72B493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5DD0-2164-4FD0-B33B-B52FFBF28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1AB3-EE16-4A3D-AF00-5C0D21805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7AFF-D49B-4492-8817-9EA7EA7B2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CC33-13E7-4542-BBD9-B65CA6595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5F6C-1637-4963-9851-C585939DD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2F18-3E1D-48F1-A3A1-CC1D7C12D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F1B0-3EE2-42E2-B2ED-79407046E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385B-451F-4260-A76E-7DF80812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4924-D707-4304-B933-2BFF6840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3C2C-0FCD-4BBA-939C-E34BD05B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B93AE-5F26-413D-9476-0582AB204E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Byzantine Empi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1828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fter the Fall of Rom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yzantine Empire Weake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vasions (Arabs, Turks, Russians, Crusaders, etc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gnored own military &amp; relied on mercen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usades (Sack of Constantinople in 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rusad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ivil w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ak emper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487440" y="457200"/>
            <a:ext cx="8351640" cy="59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3808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wnfall &amp; Lega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914400" y="1784520"/>
            <a:ext cx="7772400" cy="476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ll of Constantinople (145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hmed II &amp; Ottoman Turks laid siege to c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oke through walls using cann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tantine XI (last Byzantine Emperor) died defending c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gacy of Byzantine Emp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tected Western Europe from eastern invaders [for a time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fluences on art, architecture, &amp; religion still seen tod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ap: Fall of Rom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14040" y="178452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stern Roman Empire weakened by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Odoac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barbarian general) invades Rome &amp; makes self king in 476 C.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1" descr=""/>
          <p:cNvPicPr/>
          <p:nvPr/>
        </p:nvPicPr>
        <p:blipFill>
          <a:blip r:embed="rId1"/>
          <a:stretch/>
        </p:blipFill>
        <p:spPr>
          <a:xfrm>
            <a:off x="4876920" y="1752480"/>
            <a:ext cx="3962160" cy="42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deo: Inside Byzanti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144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religions or cultures did the Byzantine Empire borrow fro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was the capital of the Byzantine Empi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was the Hagia Sophi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country was later influenced by the Byzantine Empi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were the Crusad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defeated the Byzantine Empire and whe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14040" y="17845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stern Roman Empir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yzantine Emp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yzanti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” – from city of Byzant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named Constantinople by Constantine (300’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ter renamed Istanbul by Turks (after 1453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ficial language: Gre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ligion: Orthodox Christia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lture: blend of Greek, Roman, Persi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stantine (ruled ~306-337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united Roman Empire after defeating Western Roman Emper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ed to Christianity &amp; stopped persecuting Christi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ved capital to Constantino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ssed reforms in Roman Emp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, more stable money (the solidu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organized government &amp; milit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stantino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91440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w capital of Empire founded by Constantine because it wa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sier to def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cated along many trade rou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ide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Engineering an Empire – Byzantines (12:50-20:1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erly known a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yzantiu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rrently known a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stanbu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odosius (378-395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st emperor to “officially” rule over both halves of Roman Emp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de Christianity official religion of Roman Emp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ssed laws against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paga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i.e.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on-Christia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relig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de a saint Orthodox Christia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stinian (527-565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rried Theodora (burlesque danc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secuted non-Christians &amp; passed “morality laws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ied to reconquer western part of Roman Empir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ised taxes &amp; “squeezed” people for mone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ople rioted in Hippodrome, Theodora persuaded Justinian not to flee, &amp; put down rebe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stinian (527-565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litary conquests successful, but also bankrupted emp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agia Soph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“Church of Holy Wisdom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rpus Juris Civilis (Code of Justinian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llection of laws written during Roman Empi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is of modern civil law (written &amp; collected law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05:19:55Z</dcterms:created>
  <dc:creator>Wesley Banh</dc:creator>
  <dc:description/>
  <dc:language>en-US</dc:language>
  <cp:lastModifiedBy>Wesley Banh</cp:lastModifiedBy>
  <dcterms:modified xsi:type="dcterms:W3CDTF">2010-09-13T05:24:40Z</dcterms:modified>
  <cp:revision>3</cp:revision>
  <dc:subject/>
  <dc:title>The Byzantine Empire</dc:title>
</cp:coreProperties>
</file>