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CE8-43F8-4FFD-9D6D-6C3CF43D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533-9491-455B-8718-893D1039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87E-D6AB-4A6C-AE90-095A3818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87D-927E-469E-9D06-640287F9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08C-1346-49AD-B3FC-E458CC4F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23F-9292-4622-B524-33B0EB9E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EEA-9263-45B9-A2F9-CE05DF4C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167-2A21-471C-933D-54CC64A8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291-6B4A-4F35-A538-F6CB680E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8FC-44A8-4FA0-9822-AF341DAB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547-62A6-40DF-B7BA-EAB0E08A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ED1-20F3-4416-A5D6-BB71C55C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E562-CA15-4E0F-9E4B-4AF098E87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andards 7.2.4 &amp; 7.2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lim Expan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quest &amp;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520" y="176040"/>
            <a:ext cx="9047160" cy="65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Arabia’s location good for tra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some of the things people trad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than trade goods, what else might travel along these rou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Questions: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22234" t="15811" r="2176" b="2056"/>
          <a:stretch/>
        </p:blipFill>
        <p:spPr>
          <a:xfrm>
            <a:off x="3962520" y="1693800"/>
            <a:ext cx="50292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quered N. Africa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berian Peninsul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&amp; Central A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pire based on strong government, common language (Arabic), &amp; using same kind of money across entire emp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ll b/c of religious &amp; political differ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50 C.E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bassid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feated Umayya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Iberian Peninsul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p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ureaucrac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ystem of agencies/people who do work of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mi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uslim governors of Umayyad provi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The Umayyads (pp. 113-11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4582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werful empire with capital in Baghda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lture was very advanced (art, lit., math, medicin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leaders led to dynasty’s fall to Fatimids &amp; Tur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ghd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pital of Abbasid Dynas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anding arm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my kept during times of peace AND w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olden 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iod when society/culture is at it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lligra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ncy hand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mar Khayy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mous Persian po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posing (or enemy)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The Abbasids (pp. 119-1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7520" y="152280"/>
            <a:ext cx="90964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mayyad gov’t in Spai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“al-Andalu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ed by Abd al-Rahman, who united Spanish Muslims &amp; built huge standing army to protect emp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rdoba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enter of Muslim trade, culture, &amp; learn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dreds of workshops &amp; good farms in countryside and HUGE libraries &amp; many scholars in 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ces in math, geography, medicin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ll apart b/c of Christian attacks &amp; Muslim fa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ocabul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-Andal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rdob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pital city of al-Anda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Muslims in Spain (pp. 131-1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523880"/>
          <a:ext cx="8229600" cy="353556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Idea/Wo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Definition/Mean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were cities usually located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ng trade rou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 water (hint: near an </a:t>
                      </a: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OASI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ople who lived in cities are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dentary peo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n as city-dwellers (merchants, artisans, the rich, etc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ies were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s of tra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wth of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21:42Z</dcterms:created>
  <dc:creator>Wesley Banh</dc:creator>
  <dc:description/>
  <dc:language>en-US</dc:language>
  <cp:lastModifiedBy>Wesley Banh</cp:lastModifiedBy>
  <dcterms:modified xsi:type="dcterms:W3CDTF">2010-09-30T06:23:36Z</dcterms:modified>
  <cp:revision>2</cp:revision>
  <dc:subject/>
  <dc:title>Muslim Expansion:  Conquest &amp; Trade</dc:title>
</cp:coreProperties>
</file>