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603-90DE-4E13-BB03-BE6EF37C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0E5-0B5B-45FC-A371-584BFA5E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560-A2ED-4F74-8DF4-7448E177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1C5-D462-497B-9A85-9759DA8C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DDE-3425-4BF2-9DA7-E1AA803D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AC6-E045-44BC-9451-EA0DFDB0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BCB-2FAD-4702-9025-6A1DE21A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94C-D7B1-4143-9CB1-ACBC6216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AE8-7B1F-46E0-AC70-FD97BB84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9FC-EA28-42D8-B8D6-1AD3E9E1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701-E266-4F35-8A3F-006B5DFD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43D-6183-479B-9E23-90909A6D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6B80-B63A-4E08-9349-09D85F60A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andards 7.2.4 &amp; 7.2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lim Expan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quest &amp;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520" y="176040"/>
            <a:ext cx="9047160" cy="65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Arabia’s location good for tra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re some of the things people trad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than trade goods, what else might travel along these rout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Questions: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22234" t="15811" r="2176" b="2056"/>
          <a:stretch/>
        </p:blipFill>
        <p:spPr>
          <a:xfrm>
            <a:off x="3962520" y="1693800"/>
            <a:ext cx="50292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quered N. Africa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berian Peninsul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&amp; Central A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mpire based on strong government, common language (Arabic), &amp; using same kind of money across entire emp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ll b/c of religious &amp; political differ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50 C.E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Abassid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efeated Umayya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Vocabular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Iberian Peninsul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p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Bureaucrac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ystem of agencies/people who do work of gover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mi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uslim governors of Umayyad provi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p: The Umayyads (pp. 113-11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4582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werful empire with capital in Baghda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lture was very advanced (art, lit., math, medicin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ak leaders led to dynasty’s fall to Fatimids &amp; Tur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Vocabular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ghd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pital of Abbasid Dynas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anding arm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my kept during times of peace AND w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olden 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iod when society/culture is at its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lligrap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ncy hand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mar Khayy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mous Persian po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posing (or enemy)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The Abbasids (pp. 119-12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4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7520" y="152280"/>
            <a:ext cx="90964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mayyad gov’t in Spai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“al-Andalu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ed by Abd al-Rahman, who united Spanish Muslims &amp; built huge standing army to protect emp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rdoba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enter of Muslim trade, culture, &amp; learn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ndreds of workshops &amp; good farms in countryside and HUGE libraries &amp; many scholars in 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ces in math, geography, medicin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ll apart b/c of Christian attacks &amp; Muslim fac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Vocabular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-Andal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rdob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pital city of al-Anda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p: Muslims in Spain (pp. 131-1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1523880"/>
          <a:ext cx="8229600" cy="3535560"/>
        </p:xfrm>
        <a:graphic>
          <a:graphicData uri="http://schemas.openxmlformats.org/drawingml/2006/table">
            <a:tbl>
              <a:tblPr/>
              <a:tblGrid>
                <a:gridCol w="2971800"/>
                <a:gridCol w="5257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Idea/Wo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Definition/Mean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were cities usually located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ng trade rou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 water (hint: near an </a:t>
                      </a: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OASI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ople who lived in cities are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dentary peop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n as city-dwellers (merchants, artisans, the rich, etc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ies were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s of trad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wth of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6:21:42Z</dcterms:created>
  <dc:creator>Wesley Banh</dc:creator>
  <dc:description/>
  <dc:language>en-US</dc:language>
  <cp:lastModifiedBy>Wesley Banh</cp:lastModifiedBy>
  <dcterms:modified xsi:type="dcterms:W3CDTF">2010-09-30T06:23:36Z</dcterms:modified>
  <cp:revision>2</cp:revision>
  <dc:subject/>
  <dc:title>Muslim Expansion:  Conquest &amp; Trade</dc:title>
</cp:coreProperties>
</file>