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0.png" ContentType="image/png"/>
  <Override PartName="/ppt/media/image9.png" ContentType="image/png"/>
  <Override PartName="/ppt/media/image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D5DC-6898-46FF-83DF-452EB7C8E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104F-0C12-48DF-A7B8-04187F6B0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99E4-25D6-4DB1-9F0A-DB08B01AB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956A-8A33-49D3-8A96-5652B0FC3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8F7DB-E1C0-439C-A358-37D6DE93F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7D3A0-B9EB-4FE9-BB10-9BFBA1B53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9275A-C6A1-485F-923B-65A3B3BCB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D557C-E8EB-4265-B06F-A7C8D0795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F4332-D80A-44B2-8B44-8F4B6ACF6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45439-8B09-4611-ADCC-B936CB472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48B97-987B-4A08-AE06-BD02F5470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DD58-AECC-456A-97C8-EAB866C0B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5DA5C-6639-4404-B014-6A3EA83C4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C0D47-A819-43B0-AFA8-2CEE5E77E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51AE5-18E4-425B-9D45-41A6F8270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49EC7-76AC-4D1B-9B61-A22991F7B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1FAF0-916D-4B77-9CB3-1F2E883B4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F5274-6DBC-495A-8A0B-EE68D6DD8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A9783-26C5-48E2-BAEF-1273DD03E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E59F8-0936-4906-974F-95C24C6B6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C3256-3998-4A03-9897-3308ED590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B3588-6E04-48EF-AA6D-724B2C058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0EBF-40D0-4AFE-8855-2BFF99B49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D699B-7F27-4F91-9DB9-27EA384D6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EC602-F7D8-4718-804F-D99E46A32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F54FF-17CF-4D09-964E-93A49E490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91EF4-7BD3-4328-AE58-FF6EF0A9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95A35-DEE2-4FA5-849C-2DC757A05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FBAB4-EEB7-4156-B4F5-C5F4B6118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0DBE4-56D2-4FA9-8D5F-A60B83519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72F5A-6C07-480F-AAEC-31873838B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495FD-51C3-4AE2-8165-41F6D9C5E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DEBBC-865F-475A-A13A-C251FB20E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9DAA-10A2-4281-AB14-60294C696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6C434-3E61-4611-A4D0-59EB199EF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E33D8-67E0-4567-AC98-FF2694C07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4165C-FBA9-43E4-BCC3-5A7342A27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E8EF9-1495-4477-BF2B-33CCDDA1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0D763-9A37-4E44-B502-20CF0F75E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03DE3-C05B-498B-9ECD-306F7412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6E054-8BE9-4723-81AA-DBDDDA593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458B3-C9CB-47EE-87D1-3FF889D7C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FFF4B-BC85-44B8-85EA-3CD31DA9D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9E7D1-DAA0-4E19-8FF5-684482FC4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CAE7-60AF-4BCA-8A20-EDBB692FD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5EC16F-761F-436E-97E0-A48F99C1D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172683-5AFC-4352-893E-9DA9CE656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77742-5F61-4E80-A8A7-C97133EE5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138A94-8A9C-4D72-9673-06969F952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25C5B6-7340-4B9E-9993-84CA4D2CD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E3A9DF-0204-4BE2-87DA-A7CF8934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99135-9E30-4EB8-A49B-9E7A542F4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019CE-07BA-4A45-A9C5-4434B6486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EFFCB-C923-4C4D-B4EB-14E3D25E1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882D01-A23A-4E99-BF7F-0FC2F0DCA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F8BB-CD1C-4CA3-B803-D6366BE1F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DB11C2-B849-42CB-86C0-2740C1425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6290-AC1C-4793-B826-970678D3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1019-5CC9-464D-8FEA-B2822A29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ABA7-A11A-457D-96A9-711431FC1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0A1CC-C4B9-4A56-BB6F-D537CBED3859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D76EB-FE9C-412E-9403-F35564EBF54D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7AC81-D96B-477E-97F0-03DC8DA24E5D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F9DD0-F2A4-441A-97CA-7F5AFB962C97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Round Single Corner Rectangle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22D0D-2535-4D96-8BB4-1A7A7F9755B9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8d3e"/>
                </a:solidFill>
                <a:latin typeface="Verdana"/>
              </a:rPr>
              <a:t>History:</a:t>
            </a:r>
            <a:endParaRPr b="1" lang="en-US" sz="7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9766f"/>
                </a:solidFill>
                <a:latin typeface="Verdana"/>
              </a:rPr>
              <a:t>“</a:t>
            </a:r>
            <a:r>
              <a:rPr b="0" lang="en-US" sz="3000" spc="-1" strike="noStrike">
                <a:solidFill>
                  <a:srgbClr val="79766f"/>
                </a:solidFill>
                <a:latin typeface="Verdana"/>
              </a:rPr>
              <a:t>What is it?” and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9766f"/>
                </a:solidFill>
                <a:latin typeface="Verdana"/>
              </a:rPr>
              <a:t>“</a:t>
            </a:r>
            <a:r>
              <a:rPr b="0" lang="en-US" sz="3000" spc="-1" strike="noStrike">
                <a:solidFill>
                  <a:srgbClr val="79766f"/>
                </a:solidFill>
                <a:latin typeface="Verdana"/>
              </a:rPr>
              <a:t>Why does it matter?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History is not…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3" name="TextBox 2"/>
          <p:cNvSpPr/>
          <p:nvPr/>
        </p:nvSpPr>
        <p:spPr>
          <a:xfrm>
            <a:off x="533520" y="1752480"/>
            <a:ext cx="6019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425d"/>
                </a:solidFill>
                <a:latin typeface="Verdana"/>
              </a:rPr>
              <a:t>An endless list of dates and dead people to be memoriz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TextBox 4"/>
          <p:cNvSpPr/>
          <p:nvPr/>
        </p:nvSpPr>
        <p:spPr>
          <a:xfrm>
            <a:off x="2057400" y="449568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425d"/>
                </a:solidFill>
                <a:latin typeface="Verdana"/>
              </a:rPr>
              <a:t>About random, unrelated figures and even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History is…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6" name="TextBox 5"/>
          <p:cNvSpPr/>
          <p:nvPr/>
        </p:nvSpPr>
        <p:spPr>
          <a:xfrm>
            <a:off x="3809880" y="552600"/>
            <a:ext cx="495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425d"/>
                </a:solidFill>
                <a:latin typeface="Verdana"/>
              </a:rPr>
              <a:t>The study of past events and figur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Picture 16" descr="7th - History collage.jpg"/>
          <p:cNvPicPr/>
          <p:nvPr/>
        </p:nvPicPr>
        <p:blipFill>
          <a:blip r:embed="rId1"/>
          <a:stretch/>
        </p:blipFill>
        <p:spPr>
          <a:xfrm>
            <a:off x="298440" y="1752480"/>
            <a:ext cx="8547120" cy="43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Box 4"/>
          <p:cNvSpPr/>
          <p:nvPr/>
        </p:nvSpPr>
        <p:spPr>
          <a:xfrm>
            <a:off x="533520" y="1752480"/>
            <a:ext cx="8076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425d"/>
                </a:solidFill>
                <a:latin typeface="Verdana"/>
              </a:rPr>
              <a:t>About studying how people and events in different places are related to each othe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Content Placeholder 3" descr="Map - poultry trade flows.gif"/>
          <p:cNvPicPr/>
          <p:nvPr/>
        </p:nvPicPr>
        <p:blipFill>
          <a:blip r:embed="rId1"/>
          <a:stretch/>
        </p:blipFill>
        <p:spPr>
          <a:xfrm>
            <a:off x="380880" y="425520"/>
            <a:ext cx="8382240" cy="55180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" descr=""/>
          <p:cNvPicPr/>
          <p:nvPr/>
        </p:nvPicPr>
        <p:blipFill>
          <a:blip r:embed="rId2"/>
          <a:stretch/>
        </p:blipFill>
        <p:spPr>
          <a:xfrm>
            <a:off x="152280" y="361800"/>
            <a:ext cx="8894880" cy="55818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3" descr=""/>
          <p:cNvPicPr/>
          <p:nvPr/>
        </p:nvPicPr>
        <p:blipFill>
          <a:blip r:embed="rId3"/>
          <a:stretch/>
        </p:blipFill>
        <p:spPr>
          <a:xfrm>
            <a:off x="228600" y="380880"/>
            <a:ext cx="88772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Content Placeholder 4" descr="300 - phalanx.jpg"/>
          <p:cNvPicPr/>
          <p:nvPr/>
        </p:nvPicPr>
        <p:blipFill>
          <a:blip r:embed="rId1"/>
          <a:stretch/>
        </p:blipFill>
        <p:spPr>
          <a:xfrm>
            <a:off x="1371600" y="762120"/>
            <a:ext cx="6114960" cy="3200400"/>
          </a:xfrm>
          <a:prstGeom prst="rect">
            <a:avLst/>
          </a:prstGeom>
          <a:ln w="0">
            <a:noFill/>
          </a:ln>
        </p:spPr>
      </p:pic>
      <p:sp>
        <p:nvSpPr>
          <p:cNvPr id="233" name="TextBox 3"/>
          <p:cNvSpPr/>
          <p:nvPr/>
        </p:nvSpPr>
        <p:spPr>
          <a:xfrm>
            <a:off x="457200" y="4800600"/>
            <a:ext cx="8077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425d"/>
                </a:solidFill>
                <a:latin typeface="Verdana"/>
              </a:rPr>
              <a:t>About looking for patterns and themes that appear and reappear in human history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2"/>
          <a:stretch/>
        </p:blipFill>
        <p:spPr>
          <a:xfrm>
            <a:off x="1143000" y="457200"/>
            <a:ext cx="6705720" cy="44625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" descr=""/>
          <p:cNvPicPr/>
          <p:nvPr/>
        </p:nvPicPr>
        <p:blipFill>
          <a:blip r:embed="rId3"/>
          <a:stretch/>
        </p:blipFill>
        <p:spPr>
          <a:xfrm>
            <a:off x="1143000" y="457200"/>
            <a:ext cx="6705720" cy="4414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"/>
          <p:cNvPicPr/>
          <p:nvPr/>
        </p:nvPicPr>
        <p:blipFill>
          <a:blip r:embed="rId4"/>
          <a:stretch/>
        </p:blipFill>
        <p:spPr>
          <a:xfrm>
            <a:off x="1143000" y="380880"/>
            <a:ext cx="6781680" cy="45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5" descr=""/>
          <p:cNvPicPr/>
          <p:nvPr/>
        </p:nvPicPr>
        <p:blipFill>
          <a:blip r:embed="rId1"/>
          <a:stretch/>
        </p:blipFill>
        <p:spPr>
          <a:xfrm>
            <a:off x="4572000" y="685800"/>
            <a:ext cx="3529080" cy="3529080"/>
          </a:xfrm>
          <a:prstGeom prst="rect">
            <a:avLst/>
          </a:prstGeom>
          <a:ln w="0">
            <a:noFill/>
          </a:ln>
        </p:spPr>
      </p:pic>
      <p:sp>
        <p:nvSpPr>
          <p:cNvPr id="238" name="TextBox 5"/>
          <p:cNvSpPr/>
          <p:nvPr/>
        </p:nvSpPr>
        <p:spPr>
          <a:xfrm>
            <a:off x="533520" y="590724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425d"/>
                </a:solidFill>
                <a:latin typeface="Verdana"/>
              </a:rPr>
              <a:t>ALWAYS CHANGIN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9" name="Picture 2" descr=""/>
          <p:cNvPicPr/>
          <p:nvPr/>
        </p:nvPicPr>
        <p:blipFill>
          <a:blip r:embed="rId2"/>
          <a:stretch/>
        </p:blipFill>
        <p:spPr>
          <a:xfrm>
            <a:off x="4648320" y="609480"/>
            <a:ext cx="3809880" cy="38102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3" descr=""/>
          <p:cNvPicPr/>
          <p:nvPr/>
        </p:nvPicPr>
        <p:blipFill>
          <a:blip r:embed="rId3"/>
          <a:stretch/>
        </p:blipFill>
        <p:spPr>
          <a:xfrm>
            <a:off x="4495680" y="609480"/>
            <a:ext cx="4286520" cy="3486240"/>
          </a:xfrm>
          <a:prstGeom prst="rect">
            <a:avLst/>
          </a:prstGeom>
          <a:ln w="0">
            <a:noFill/>
          </a:ln>
        </p:spPr>
      </p:pic>
      <p:pic>
        <p:nvPicPr>
          <p:cNvPr id="241" name="Content Placeholder 6" descr="1956 - 5 mb Hard Drive.jpg"/>
          <p:cNvPicPr/>
          <p:nvPr/>
        </p:nvPicPr>
        <p:blipFill>
          <a:blip r:embed="rId4"/>
          <a:stretch/>
        </p:blipFill>
        <p:spPr>
          <a:xfrm>
            <a:off x="533520" y="609480"/>
            <a:ext cx="4038480" cy="50738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2" descr="00 Blank White Ppt size.jpg"/>
          <p:cNvPicPr/>
          <p:nvPr/>
        </p:nvPicPr>
        <p:blipFill>
          <a:blip r:embed="rId5"/>
          <a:stretch/>
        </p:blipFill>
        <p:spPr>
          <a:xfrm>
            <a:off x="4565520" y="603360"/>
            <a:ext cx="4206960" cy="5121000"/>
          </a:xfrm>
          <a:prstGeom prst="rect">
            <a:avLst/>
          </a:prstGeom>
          <a:ln w="0">
            <a:noFill/>
          </a:ln>
        </p:spPr>
      </p:pic>
      <p:sp>
        <p:nvSpPr>
          <p:cNvPr id="243" name="TextBox 11"/>
          <p:cNvSpPr/>
          <p:nvPr/>
        </p:nvSpPr>
        <p:spPr>
          <a:xfrm>
            <a:off x="4952880" y="1295280"/>
            <a:ext cx="3581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365a"/>
                </a:solidFill>
                <a:latin typeface="Verdana"/>
              </a:rPr>
              <a:t>In order of appearanc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48365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365a"/>
                </a:solidFill>
                <a:latin typeface="Verdana"/>
              </a:rPr>
              <a:t>5 MB hard dr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48365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365a"/>
                </a:solidFill>
                <a:latin typeface="Verdana"/>
              </a:rPr>
              <a:t>SATA hard dr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48365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365a"/>
                </a:solidFill>
                <a:latin typeface="Verdana"/>
              </a:rPr>
              <a:t>USB Flash driv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48365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365a"/>
                </a:solidFill>
                <a:latin typeface="Verdana"/>
              </a:rPr>
              <a:t>Disney USB Flash driv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7" dur="2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3280" y="456840"/>
            <a:ext cx="818352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So, why does history matter?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03280" y="3047760"/>
            <a:ext cx="8183520" cy="3429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hows us where we came from and how we got he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aches people to…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rpret &amp; make sense of information to support their opinions &amp; argu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amine information &amp; decide whether or not it’s useful/true/accurate/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Vertical Text Placeholder 2"/>
          <p:cNvSpPr/>
          <p:nvPr/>
        </p:nvSpPr>
        <p:spPr>
          <a:xfrm>
            <a:off x="503280" y="1523880"/>
            <a:ext cx="81835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cuss with a partner for 1-2 minutes &amp; be prepared to share your answer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328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osing thoughts: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8" name="TextBox 4"/>
          <p:cNvSpPr/>
          <p:nvPr/>
        </p:nvSpPr>
        <p:spPr>
          <a:xfrm>
            <a:off x="533520" y="1752480"/>
            <a:ext cx="8076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2c3e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e2c3e"/>
                </a:solidFill>
                <a:latin typeface="Verdana"/>
              </a:rPr>
              <a:t>Those who cannot remember the past are condemned to repeat it.”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2c3e"/>
                </a:solidFill>
                <a:latin typeface="Verdana"/>
              </a:rPr>
              <a:t>George Santayan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762120" y="2895480"/>
            <a:ext cx="23619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0T05:14:58Z</dcterms:created>
  <dc:creator>Wesley Banh</dc:creator>
  <dc:description/>
  <dc:language>en-US</dc:language>
  <cp:lastModifiedBy>Wesley Banh</cp:lastModifiedBy>
  <dcterms:modified xsi:type="dcterms:W3CDTF">2010-08-30T06:22:15Z</dcterms:modified>
  <cp:revision>10</cp:revision>
  <dc:subject/>
  <dc:title>History:</dc:title>
</cp:coreProperties>
</file>