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AD0-2C70-4703-BCE0-0B6D7552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0D1-DFF0-4DCB-B5EF-D3B2AF0D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282-C023-4618-B8CE-1D5512B2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C5B-2030-48E1-B087-9A36431A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57FB-4C53-4C70-B925-171CEACC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49F0-D94D-41BA-83D2-DC35296C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4317-7702-4DB5-88DB-F69AE73E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2B82-19FD-455F-B03E-A9370877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A50F-85A2-41B9-99CF-2C5C1ED4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6683-2F86-424A-AC01-D187A441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BCBC-97F9-4672-82CD-A17315D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4AC-2EAB-40C5-8892-078CC2E4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278C-9B8A-4A54-AE8C-EB36C5C0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02E1-AEFF-48B1-9AA7-EE6D19DC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3817-55A4-443C-804F-282DD3D8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A46E-CE38-4B64-A6BD-DCD5C88D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D713-8BB3-489F-9CE2-0AA868D3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AD66-B2F2-402C-B9D2-81FAA3CE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9C67-CF39-4963-9183-28D81B25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423D-9079-4D44-BF6F-7FD11D15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653D-9362-480D-A108-FC6852D3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68BD-C056-42D7-A988-0B674F7D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C05-34DF-4CC7-B8AC-F840C03D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4B56-8875-42E7-B4A9-68E4EEFF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8AF0-44A8-4DB2-9123-917D6B7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0D2F-6683-4877-B512-351D7C66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C96E-EE8A-4D13-8993-A57A7169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88A27-014D-420F-A483-94073167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17A7-A3CE-4AE4-B92F-459FF6AC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6C81-226F-4C9A-BDE0-8E06889B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11039-91ED-4892-AA6D-20E59E66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D522-3A68-4CC8-B6F1-88541DF6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94F9-F1AC-4199-8C78-F8ACF298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01E-1AD1-440E-80C3-57009B06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77A42-D1B4-4A2F-9DBB-B86656E8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697E9-3146-4CB1-9148-79059A0D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61BA9-6AB2-4863-878E-7F4BC335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B3DBC-0398-48B2-B829-7B5E76BF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9010-857E-49FD-9531-54F98D44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24C5-195A-4EF9-9754-D2BEE705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D523-76EC-4726-8841-0074C4B5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59A47-BF24-4673-887D-089DE570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14EB4-F4C7-4D6B-B775-E70A9A82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077D-48CA-4A0F-A6E5-1E83B2CD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B4D-9E37-421B-97FD-ACF6F3B6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99CCE-8B2F-4E65-9043-9832EA9A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753C-F951-4DE2-9000-ED84BCC5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95DC-5743-464A-8F70-2853C10A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A4B7D-7C7A-48BC-A247-679765A0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2544B-0C4E-447E-8C5A-32B5C370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A5C8-970F-4179-9884-5243DD7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72DC-578A-4ACB-A40F-5403D31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D1DFC-DE3B-419D-9D02-C5477D2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44C11-7003-4042-9EF7-EF2EBB85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853F5-9418-486B-A338-C3491C1A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565-4852-442A-9F26-60AFC861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F6546-5358-4C3F-837F-62220B5E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6C5-FFCD-453C-B3D5-F65A9563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EC2-BD62-4F77-9F6B-A7A79CB9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02F-5F31-4162-B555-4C353434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10BC-0805-4EF4-810A-ACA21330C4B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8F55-5F1B-40BF-BD46-DB4F39855A8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5F5F-D747-4268-96E9-6623D78F297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7823-0A7C-4DC7-9856-AAD2C984555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5B31-6D17-4874-9B65-6810BCCC208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8d3e"/>
                </a:solidFill>
                <a:latin typeface="Verdana"/>
              </a:rPr>
              <a:t>History: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What is it?” 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Why does it matter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History is not…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533520" y="1752480"/>
            <a:ext cx="60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n endless list of dates and dead people to be memoriz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057400" y="44956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bout random, unrelated figures and ev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History is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3809880" y="5526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The study of past events and figu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16" descr="7th - History collage.jpg"/>
          <p:cNvPicPr/>
          <p:nvPr/>
        </p:nvPicPr>
        <p:blipFill>
          <a:blip r:embed="rId1"/>
          <a:stretch/>
        </p:blipFill>
        <p:spPr>
          <a:xfrm>
            <a:off x="298440" y="1752480"/>
            <a:ext cx="85471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4"/>
          <p:cNvSpPr/>
          <p:nvPr/>
        </p:nvSpPr>
        <p:spPr>
          <a:xfrm>
            <a:off x="533520" y="17524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bout studying how people and events in different places are related to each oth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Content Placeholder 3" descr="Map - poultry trade flows.gif"/>
          <p:cNvPicPr/>
          <p:nvPr/>
        </p:nvPicPr>
        <p:blipFill>
          <a:blip r:embed="rId1"/>
          <a:stretch/>
        </p:blipFill>
        <p:spPr>
          <a:xfrm>
            <a:off x="380880" y="425520"/>
            <a:ext cx="8382240" cy="551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152280" y="361800"/>
            <a:ext cx="8894880" cy="5581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8877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Content Placeholder 4" descr="300 - phalanx.jpg"/>
          <p:cNvPicPr/>
          <p:nvPr/>
        </p:nvPicPr>
        <p:blipFill>
          <a:blip r:embed="rId1"/>
          <a:stretch/>
        </p:blipFill>
        <p:spPr>
          <a:xfrm>
            <a:off x="1371600" y="762120"/>
            <a:ext cx="611496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457200" y="4800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bout looking for patterns and themes that appear and reappear in human history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705720" cy="4462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1143000" y="457200"/>
            <a:ext cx="6705720" cy="44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1143000" y="380880"/>
            <a:ext cx="678168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533520" y="59072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LWAYS CHAN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4495680" y="609480"/>
            <a:ext cx="4286520" cy="3486240"/>
          </a:xfrm>
          <a:prstGeom prst="rect">
            <a:avLst/>
          </a:prstGeom>
          <a:ln w="0">
            <a:noFill/>
          </a:ln>
        </p:spPr>
      </p:pic>
      <p:pic>
        <p:nvPicPr>
          <p:cNvPr id="241" name="Content Placeholder 6" descr="1956 - 5 mb Hard Drive.jpg"/>
          <p:cNvPicPr/>
          <p:nvPr/>
        </p:nvPicPr>
        <p:blipFill>
          <a:blip r:embed="rId4"/>
          <a:stretch/>
        </p:blipFill>
        <p:spPr>
          <a:xfrm>
            <a:off x="533520" y="609480"/>
            <a:ext cx="4038480" cy="5073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00 Blank White Ppt size.jpg"/>
          <p:cNvPicPr/>
          <p:nvPr/>
        </p:nvPicPr>
        <p:blipFill>
          <a:blip r:embed="rId5"/>
          <a:stretch/>
        </p:blipFill>
        <p:spPr>
          <a:xfrm>
            <a:off x="4565520" y="603360"/>
            <a:ext cx="4206960" cy="5121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1"/>
          <p:cNvSpPr/>
          <p:nvPr/>
        </p:nvSpPr>
        <p:spPr>
          <a:xfrm>
            <a:off x="4952880" y="12952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In order of appear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5 MB hard dr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SATA hard dr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USB Flash dr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Disney USB Flash dr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o, why does history matter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304776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ws us where we came from and how we got 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s people to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pret &amp; make sense of information to support their opinions &amp; arg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information &amp; decide whether or not it’s useful/true/accurate/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Vertical Text Placeholder 2"/>
          <p:cNvSpPr/>
          <p:nvPr/>
        </p:nvSpPr>
        <p:spPr>
          <a:xfrm>
            <a:off x="503280" y="1523880"/>
            <a:ext cx="818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with a partner for 1-2 minutes &amp; be prepared to share your answ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osing thought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533520" y="175248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c3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e2c3e"/>
                </a:solidFill>
                <a:latin typeface="Verdana"/>
              </a:rPr>
              <a:t>Those who cannot remember the past are condemned to repeat it.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c3e"/>
                </a:solidFill>
                <a:latin typeface="Verdana"/>
              </a:rPr>
              <a:t>George Santaya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23619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5:14:58Z</dcterms:created>
  <dc:creator>Wesley Banh</dc:creator>
  <dc:description/>
  <dc:language>en-US</dc:language>
  <cp:lastModifiedBy>Wesley Banh</cp:lastModifiedBy>
  <dcterms:modified xsi:type="dcterms:W3CDTF">2010-08-30T06:22:15Z</dcterms:modified>
  <cp:revision>10</cp:revision>
  <dc:subject/>
  <dc:title>History:</dc:title>
</cp:coreProperties>
</file>