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DC7-EDAC-4332-BAAB-9619A0176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A57-5301-4D01-BF7A-6887CFD82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0CA-9567-4074-82FB-3267B53C8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F37C-56A5-4284-A381-947E299B4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C4B8-4D8E-4F70-888E-908119FF0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1C2-B67D-4787-9164-511C6014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590-D232-4E30-B5BF-AE32C4DB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189-500D-45E3-9E1A-3424FBDD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93C-F579-45E6-BD93-AAD0A11F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088-7D82-43CD-9645-3D77B0B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C53-97B9-42A6-AFAA-D3DBB29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EB9-98E1-4D46-81AC-0DA67B00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66F-5F84-468C-B2FD-E06B89C7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5F5-5F7E-49C5-A4B7-9D2E3A25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E90-3AE2-4D0A-8E47-8072B9A8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6BB-0962-4038-9FD0-75482B0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553-EE65-4E1E-92AE-109B3072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F0E4-548F-41AF-9820-78E0B88DA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: Before &amp; After Isl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&amp; Af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45820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28958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arch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arch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bal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nguages (Soninke, Mand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bic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in gov’t, trade, &amp; citie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bal langu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religion looked 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theist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estor wor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rits (nature, good, evil, etc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Option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Convert to Islam, maintain old ways or blend both relig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8"/>
          <p:cNvSpPr/>
          <p:nvPr/>
        </p:nvSpPr>
        <p:spPr>
          <a:xfrm>
            <a:off x="5105520" y="2187720"/>
            <a:ext cx="3733560" cy="32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105520" y="2666880"/>
            <a:ext cx="373356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105520" y="3962520"/>
            <a:ext cx="37335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105520" y="6019920"/>
            <a:ext cx="3733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&amp; Af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458200" cy="3597120"/>
        </p:xfrm>
        <a:graphic>
          <a:graphicData uri="http://schemas.openxmlformats.org/drawingml/2006/table">
            <a:tbl>
              <a:tblPr/>
              <a:tblGrid>
                <a:gridCol w="1752480"/>
                <a:gridCol w="28958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(SPOKEN) langua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language (Arabic) in addition to oral o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ance of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ship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men could inherit proper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ws based on Islam (Qur’an &amp; Sunnah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men given some rights when fathers di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$$ from gold/sal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$$ from gold/sal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3"/>
          <p:cNvSpPr/>
          <p:nvPr/>
        </p:nvSpPr>
        <p:spPr>
          <a:xfrm>
            <a:off x="5105520" y="2209680"/>
            <a:ext cx="37335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5105520" y="3124080"/>
            <a:ext cx="3733560" cy="152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5105520" y="4724280"/>
            <a:ext cx="37335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 African Emp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91440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ography  (7.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st Africa had a good availability of natural resources: gold &amp; sa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hara Desert was a challenge for merch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562720" y="91440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conomics (7.4.1, 7.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st Africa traded with Muslims in North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pires grew wealthy from the gold &amp; salt t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28600" y="441972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ligion (7.4.3, 7.4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lim traders brought Islam to West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st Africa had a mix of native religions &amp; Isl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562720" y="4419720"/>
            <a:ext cx="34290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ulture (7.4.2, 7.4.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al traditions preserved history &amp; 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inshi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&amp; family structures very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048120" y="2895480"/>
            <a:ext cx="312408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v’t (7.4.2, 7.4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wer from kinship 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lim religion, ideas, &amp; laws influenced W.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21:41:24Z</dcterms:created>
  <dc:creator>Wesley Banh</dc:creator>
  <dc:description/>
  <dc:language>en-US</dc:language>
  <cp:lastModifiedBy>Wesley Banh</cp:lastModifiedBy>
  <dcterms:modified xsi:type="dcterms:W3CDTF">2010-10-17T22:40:32Z</dcterms:modified>
  <cp:revision>7</cp:revision>
  <dc:subject/>
  <dc:title>African Religion:  Before &amp; After Islam</dc:title>
</cp:coreProperties>
</file>