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E5D-5986-4D46-A403-F7A071DAA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31C-B8DE-4F33-AD39-059592B6A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DDB-478D-4C61-A799-C59FFB115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A65-3BB0-4566-8586-68D837F63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E13A-0CE1-4AD4-AF52-1A8CF30E6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B98-60EE-4DDB-904D-7CF3E57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CB0-7EF8-4025-BB59-158450F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5F3-27FA-4014-9AE0-B34D24F6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195-946F-460A-97F8-CBDA801A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8CE-0456-48CA-9A72-99C6E10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530-C290-4DF7-8B06-02526697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609-F765-4B35-8824-DD7EEB9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472-1A6A-4865-AB7F-2F0FDB14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25D-26E6-4A15-8C4E-CC62C458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CAF-85DA-4053-BE5D-F097128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4D6-009C-4A81-8A0B-3235BFA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6F5-625E-4FBA-B0D0-24699B0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E7D8-C5B1-483F-9C07-C60F2B3A7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: Before &amp; After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&amp; Af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45820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28958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arch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arch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bal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nguages (Soninke, Mand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bi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in gov’t, trade, &amp; citie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bal langu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religion looked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theist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estor wor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rits (nature, good, evil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ption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Convert to Islam, maintain old ways or blend both relig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8"/>
          <p:cNvSpPr/>
          <p:nvPr/>
        </p:nvSpPr>
        <p:spPr>
          <a:xfrm>
            <a:off x="5105520" y="2187720"/>
            <a:ext cx="3733560" cy="32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105520" y="2666880"/>
            <a:ext cx="373356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105520" y="3962520"/>
            <a:ext cx="37335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105520" y="6019920"/>
            <a:ext cx="3733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&amp; Af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458200" cy="3597120"/>
        </p:xfrm>
        <a:graphic>
          <a:graphicData uri="http://schemas.openxmlformats.org/drawingml/2006/table">
            <a:tbl>
              <a:tblPr/>
              <a:tblGrid>
                <a:gridCol w="1752480"/>
                <a:gridCol w="28958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(SPOKEN) langu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language (Arabic) in addition to oral 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nce of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ship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men could inherit proper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ws based on Islam (Qur’an &amp; Sunnah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men given some rights when fathers di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 from gold/sal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 from gold/sal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3"/>
          <p:cNvSpPr/>
          <p:nvPr/>
        </p:nvSpPr>
        <p:spPr>
          <a:xfrm>
            <a:off x="5105520" y="2209680"/>
            <a:ext cx="37335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105520" y="3124080"/>
            <a:ext cx="3733560" cy="152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105520" y="4724280"/>
            <a:ext cx="37335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 African Emp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91440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ography  (7.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had a good availability of natural resources: gold &amp; sa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hara Desert was a challenge for merch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562720" y="91440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conomics (7.4.1, 7.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traded with Muslims in North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pires grew wealthy from the gold &amp; salt t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28600" y="441972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igion (7.4.3, 7.4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lim traders brought Islam to West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had a mix of native religions &amp; Isl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562720" y="441972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ulture (7.4.2, 7.4.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l traditions preserved history &amp; 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inshi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&amp; family structures very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048120" y="2895480"/>
            <a:ext cx="312408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v’t (7.4.2, 7.4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wer from kinship 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lim religion, ideas, &amp; laws influenced W.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1:41:24Z</dcterms:created>
  <dc:creator>Wesley Banh</dc:creator>
  <dc:description/>
  <dc:language>en-US</dc:language>
  <cp:lastModifiedBy>Wesley Banh</cp:lastModifiedBy>
  <dcterms:modified xsi:type="dcterms:W3CDTF">2010-10-17T22:40:32Z</dcterms:modified>
  <cp:revision>7</cp:revision>
  <dc:subject/>
  <dc:title>African Religion:  Before &amp; After Islam</dc:title>
</cp:coreProperties>
</file>