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4874-45C5-4C78-AC79-55177DD87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81DD-E9AD-4D8A-89AE-17E9D4304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8DFB-35A9-464F-93C4-AB1559BC5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5071-B6BF-462A-A0B6-83BB4280E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B771-D748-4464-B819-16278093F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843-430D-46CA-AD8D-003329C6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4C5-B9EC-483E-859C-F8947E37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B26-3DCE-4D5B-9D8D-828BAE61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3B3-79D9-43FB-9A61-A657D7F0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12E-E1D9-4491-AEC1-97A0DD5D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133-5664-4D75-B09F-9A742D4A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1DA-E0AE-4E6E-A354-C3C8DA66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AA6-4313-4FEA-9ECF-099057C4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39A-BD80-4736-84F9-D9130224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C4B-E7D3-4857-81FB-7E3CF145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2FE-204F-4C5A-A22A-C76998AD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467-85E3-4E9F-8940-6119E56E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BCCC-99F1-470F-BB11-ED89564E2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ana, Mali, &amp; Songh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ana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de Ghana wealt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er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rb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what did they do in Gha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ttacked and conquered Gha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li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the founder of Ma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buk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why was i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Mali’s most famous king? What was the result of his pilgrimage to Mec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actors caused Mali’s dec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ghai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id the Songhai Empire beg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Askia Muhammad and how did he affect the religious beliefs of people in Songha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actors caused Songhai’s dec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w rich from gold-salt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rb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sl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mads in North Africa who traded salt across Sahara to West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d Islam &amp; Arabic to West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l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ty-Dwellers &amp; Upper clas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onverted to Isl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rmers &amp; Lower cla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mostly kept old religion OR combined old ways with Isl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quer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morav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Muslims from N. Afr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ndi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buk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capital of Mal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e/cultural center on Niger 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er of Islamic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sa Mu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ost famous king of M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ilgrim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ecca in 1324 impressed people who saw h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ll apart b/c of internal (rebellions) and external (Berber invasions) proble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gh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belled against Mali &amp; conquered lands in former Mali &amp; Ghana emp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kia Muhamm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expanded Songhai empire &amp; spread Islam throughout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i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verted to Isl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sid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ended old religion with Isl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ll apart b/c of weak leaders &amp; outside inva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23:34:42Z</dcterms:created>
  <dc:creator>Wesley Banh</dc:creator>
  <dc:description/>
  <dc:language>en-US</dc:language>
  <cp:lastModifiedBy>Wesley Banh</cp:lastModifiedBy>
  <dcterms:modified xsi:type="dcterms:W3CDTF">2010-10-14T05:57:45Z</dcterms:modified>
  <cp:revision>7</cp:revision>
  <dc:subject/>
  <dc:title>Recap: Ghana, Mali, &amp; Songhai</dc:title>
</cp:coreProperties>
</file>