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997A-96F0-48C1-9FF9-5FA469257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DE5-D6FB-4257-8AE5-08923633A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26FC-353E-4CCE-8B3D-E3F875B8D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5A0F-354C-47F3-8E37-2765D806A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AD82-8CB7-480F-8D75-18E20BC4B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02B-E1DF-40BD-AE99-3B1587E6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A20-89A4-42A1-9D64-AE4A954E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7DD-68EA-4848-9F13-C9A32D11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CA2-109E-4205-B424-374639E7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873-DF01-4E12-B523-54D808F6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A40-0BE7-43B3-985B-541B16CF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9C8-9688-464E-82CB-2855BF5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39A-84FE-4B2B-A2EE-7EE23536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791-E68E-46FD-AAF2-60C3B8C7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FD5-DAB5-4118-BF5C-49A624E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786-BDC9-4E98-90E3-6AB9D8E1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D2B-3D9C-4004-B427-147BD7F4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90AE-D7A4-402E-8E7E-150FD1F46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ana, Mali, &amp; Songh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ana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de Ghana wealt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er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b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what did they do in Gha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ttacked and conquered Gha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i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the founder of Ma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buk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why was i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Mali’s most famous king? What was the result of his pilgrimage to Mec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actors caused Mali’s dec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hai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d the Songhai Empire be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Askia Muhammad and how did he affect the religious beliefs of people in Songha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actors caused Songhai’s dec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w rich from gold-salt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b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sl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mads in North Africa who traded salt across Sahara to West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Islam &amp; Arabic to West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ty-Dwellers &amp; Upper cla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onverted to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rmers &amp; Lower cla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mostly kept old religion OR combined old ways with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quer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morav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uslims from N. Afr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ndi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buk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capital of Ma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e/cultural center on Niger 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er of Islamic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sa Mu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ost famous king of M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ilgrim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ecca in 1324 impressed people who saw h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l apart b/c of internal (rebellions) and external (Berber invasions) probl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h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belled against Mali &amp; conquered lands in former Mali &amp; Ghana emp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kia Muhamm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expanded Songhai empire &amp; spread Islam throughout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verted to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sid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ended old religion with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l apart b/c of weak leaders &amp; outside inva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3:34:42Z</dcterms:created>
  <dc:creator>Wesley Banh</dc:creator>
  <dc:description/>
  <dc:language>en-US</dc:language>
  <cp:lastModifiedBy>Wesley Banh</cp:lastModifiedBy>
  <dcterms:modified xsi:type="dcterms:W3CDTF">2010-10-14T05:57:45Z</dcterms:modified>
  <cp:revision>7</cp:revision>
  <dc:subject/>
  <dc:title>Recap: Ghana, Mali, &amp; Songhai</dc:title>
</cp:coreProperties>
</file>