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C43-0292-46D6-BB0B-99AAC4A0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037-436F-4C67-BA94-7E84A108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1BC-E601-489D-99CF-D7D868E0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EA9-95F1-48A8-8F56-416CFFE3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16B-0B29-49E6-9DFE-4B6C71D9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266-DAAE-4CF3-8A4D-3B9D7657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4B6-3E92-4302-904C-B4E9BF63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3C0-87C5-482F-B2B4-DF22BA9E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614-C497-4138-97FE-5AECBD5D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5BA-607F-4FFD-BCFC-F76EFDC3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975-6309-445A-9CA2-608C8B75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D76-F629-42EE-B517-CDFFC19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2264-CE57-4330-9879-F2C8ADC0E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 &amp; Contra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daism, Christianity, &amp; Isl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51264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: Judaism &amp; Christia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371600"/>
          <a:ext cx="8458200" cy="5211720"/>
        </p:xfrm>
        <a:graphic>
          <a:graphicData uri="http://schemas.openxmlformats.org/drawingml/2006/table">
            <a:tbl>
              <a:tblPr/>
              <a:tblGrid>
                <a:gridCol w="1600200"/>
                <a:gridCol w="2133360"/>
                <a:gridCol w="2352960"/>
                <a:gridCol w="23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udai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hristia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sl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God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the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oly Boo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ah (Old Testam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ble (New Testam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r’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oph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fter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rrection:  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ven, Hell, or Purga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dise or 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esu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her a moral teacher or a false proph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 of G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last prophet (before Muhamma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ce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mic Beliefs, Practices, &amp; Laws” (Textbook pp.94-9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ine in composition books (Cornell Notes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n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ia Law (definition i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. of pg 9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Pillars of Islam (copy down 5 pillars &amp; define each in your own wo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lamic Beliefs, Practices, &amp; Laws” (Textbook pp.94-9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1600200"/>
          <a:ext cx="7772400" cy="4876920"/>
        </p:xfrm>
        <a:graphic>
          <a:graphicData uri="http://schemas.openxmlformats.org/drawingml/2006/table">
            <a:tbl>
              <a:tblPr/>
              <a:tblGrid>
                <a:gridCol w="2286000"/>
                <a:gridCol w="5486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e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Definition/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r’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d’s revelations passed down to Muhammad from Gabri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n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’s words &amp; dee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e for proper l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of worship for Musli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ia L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of laws based on Qur’an &amp; Sunn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Pillars of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Faith, 2) Prayer, 3) Alm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) Fasting, 5) Pilgr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things about Isla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: no alcohol or p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mad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are &amp; contrast the beliefs of Islam with those of Judaism &amp; Christianity.” (1-2 paragraph respons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e Mon 9/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e Tue 9/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3:19:02Z</dcterms:created>
  <dc:creator>Wesley Banh</dc:creator>
  <dc:description/>
  <dc:language>en-US</dc:language>
  <cp:lastModifiedBy>Wesley Banh</cp:lastModifiedBy>
  <dcterms:modified xsi:type="dcterms:W3CDTF">2010-09-21T04:39:13Z</dcterms:modified>
  <cp:revision>16</cp:revision>
  <dc:subject/>
  <dc:title>Compare &amp; Contrast: Judaism, Christianity, &amp; Islam</dc:title>
</cp:coreProperties>
</file>