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C85-5869-47E4-B0D8-46E9D380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285-1DAE-476A-8A75-4E6C829F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767-DE28-49A2-997B-DC8018BE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D6C-A4A0-4707-9DB2-4E3B9CDD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4C9-9A75-4516-BB54-BB09CD2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DA8-D27C-4054-99EC-224FB8C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A37-6C73-4E84-B7E8-57FEDE5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CC0-1F59-4E9D-9CED-4862DC4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6F5-5F28-400C-B72D-319DB854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7AC-F7FF-4A43-B459-85C6708B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1F7-CB96-4A92-8858-3070F1F5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EF8-FE62-4CCA-9D7A-4CD11A98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9CC1-6A0A-44CB-B53B-2EF200656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&amp; Teach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dou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ab herders known for their nomadic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mily of people related by blood or marri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a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ce in the desert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ph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one who speaks the word of God (e.g. Moses, Jesus, Muhammad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8534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BS – Islam: Empire of Fai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0:00 to 15: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will cover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ake notes as you wat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life of Muhamm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life in the desert was lik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in the desert(before Isla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tion/significance of Mecca &amp; Ka’a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hammad’s life as a merchant &amp; marri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will call on students to respond to questions &amp; “I don’t know” won’t be good en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&amp; religious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a’a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hrine in the center of Mecca people visited to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abs thought it was built by Abraham &amp; Ishmael as a temple to God (i.e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pread of Islam Map.jpg"/>
          <p:cNvPicPr/>
          <p:nvPr/>
        </p:nvPicPr>
        <p:blipFill>
          <a:blip r:embed="rId1"/>
          <a:srcRect l="48804" t="43586" r="2208" b="2780"/>
          <a:stretch/>
        </p:blipFill>
        <p:spPr>
          <a:xfrm>
            <a:off x="5105520" y="73080"/>
            <a:ext cx="3962160" cy="3157560"/>
          </a:xfrm>
          <a:prstGeom prst="rect">
            <a:avLst/>
          </a:prstGeom>
          <a:ln w="0">
            <a:noFill/>
          </a:ln>
        </p:spPr>
      </p:pic>
      <p:sp>
        <p:nvSpPr>
          <p:cNvPr id="50" name="Striped Right Arrow 4"/>
          <p:cNvSpPr/>
          <p:nvPr/>
        </p:nvSpPr>
        <p:spPr>
          <a:xfrm rot="1306800">
            <a:off x="3699000" y="1147320"/>
            <a:ext cx="2319120" cy="457200"/>
          </a:xfrm>
          <a:prstGeom prst="pi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20136" t="0" r="6945" b="0"/>
          <a:stretch/>
        </p:blipFill>
        <p:spPr>
          <a:xfrm>
            <a:off x="5410080" y="2971800"/>
            <a:ext cx="3505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a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rom video): lived with Bedouin as a youth, life as merchant, marriage to Khadij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tated alone in a cav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angel Gabriel appeared &amp; gave Muhammad a message from God (later became basis for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ed meditating for 3 years before beginning to preach his new relig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eliefs of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theist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e go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velations of God’s word to Muhammad from the angel Gab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lims as descendant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rah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lso the ancestor of Jews &amp; Christi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, Torah, &amp; Bible all have the word of God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r’an was the perfected, or “finished,”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41234" t="19578" r="17723" b="17523"/>
          <a:stretch/>
        </p:blipFill>
        <p:spPr>
          <a:xfrm>
            <a:off x="7439040" y="1765440"/>
            <a:ext cx="1552680" cy="158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 &amp; the Hijr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934640"/>
            <a:ext cx="4952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0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&amp; followers persecuted in Mec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ijra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uhammad’s escape to Med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6480" indent="-514440">
              <a:lnSpc>
                <a:spcPct val="80000"/>
              </a:lnSpc>
              <a:spcBef>
                <a:spcPts val="524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dina converted to Islam &amp; helped Muhamm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forgave people of Mecca &amp; dedicated the Ka’aba to Alla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made alliances with Bedouin in desert (who helped spread his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fied most of Arabian peninsula before dying in 632 C.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Spread of Islam 622-750CE.jpg"/>
          <p:cNvPicPr/>
          <p:nvPr/>
        </p:nvPicPr>
        <p:blipFill>
          <a:blip r:embed="rId1"/>
          <a:stretch/>
        </p:blipFill>
        <p:spPr>
          <a:xfrm>
            <a:off x="5141880" y="1981080"/>
            <a:ext cx="3849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3:56:50Z</dcterms:created>
  <dc:creator>Wesley Banh</dc:creator>
  <dc:description/>
  <dc:language>en-US</dc:language>
  <cp:lastModifiedBy>Wesley Banh</cp:lastModifiedBy>
  <dcterms:modified xsi:type="dcterms:W3CDTF">2010-09-20T05:20:30Z</dcterms:modified>
  <cp:revision>16</cp:revision>
  <dc:subject/>
  <dc:title>Life &amp; Teachings  Of Muhammad</dc:title>
</cp:coreProperties>
</file>