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13C5-1B79-4DE8-99A6-FB33F12C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40B0-86D1-4878-854A-DDB6C164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722-AD16-4278-9DD7-50F882CE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498E-44A7-4ADC-8C4A-01C25E5B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6B8D-F2D3-412F-B7D6-315AC386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53A2-D2B8-442E-BB72-A9ECE303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232B-3AD5-441B-A4C9-40DF9479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C469-BECB-4D26-97C8-54D97FCC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1CFC-CDBE-4780-8355-C2FB2EA8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BF7F-7DFA-4270-9DDB-22A7CDE1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4F1B-4EC5-42D7-B6C1-07D42826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43CE-A69A-42C1-9876-318D7DAF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3970-2B59-41BB-9120-40567B107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68120" y="3456000"/>
            <a:ext cx="8807760" cy="70812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7924680" y="312408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4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523880" y="31478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7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685800" y="31478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2514600" y="31478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8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3390840" y="31478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4267080" y="314784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5143680" y="312408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6095880" y="31240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2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6972480" y="312408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3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2133720" y="304920"/>
            <a:ext cx="4800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Medieval Europe Annotated Time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7391520" y="152280"/>
            <a:ext cx="15843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am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io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4:20:21Z</dcterms:created>
  <dc:creator>Wesley</dc:creator>
  <dc:description/>
  <dc:language>en-US</dc:language>
  <cp:lastModifiedBy>Wesley</cp:lastModifiedBy>
  <dcterms:modified xsi:type="dcterms:W3CDTF">2012-01-31T14:28:08Z</dcterms:modified>
  <cp:revision>1</cp:revision>
  <dc:subject/>
  <dc:title>PowerPoint Presentation</dc:title>
</cp:coreProperties>
</file>