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E019-F7A0-462C-BF86-25369E66FE9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E973-4368-4D93-82E0-87EBAD5D04A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D0FE-1CB4-4D57-8FCE-77FD60E51BC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026F-69B4-4BBF-958E-32C09981EF9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D382-5D52-474A-BBD5-17CE9190D7C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27E5-E295-4055-83D5-ACE65B229FC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B1D3-B32F-46F9-8900-B3AF334F94C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0B66-221C-4C95-AB99-A83D235E875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2785-5BE7-4FD0-8F0D-C608BD2E7D4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18A5-563A-4C92-ABD4-056B930CDC7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4867-AFEA-4D64-A325-B1FA21E4E78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F377-D59B-4BF3-851E-5699B796D32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D9FF-83E5-4DF4-8812-4EF4E893E7F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58E4-C924-4F24-9D64-1CA6F542332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BE2A-5A7B-409A-BE52-81C967E78DD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8F92-51E8-486A-832B-22B80A8B251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11CC-96A0-4132-A169-A2F1C329D45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8272-FCCE-4A99-9685-5BFCB56CF67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97E7-B938-4738-BE46-B39CFC30975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5B61-EC2E-459C-B436-198A7CE1BB3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8038-6F08-4EF1-BCCD-BD32E276F94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0819-023D-439B-AF99-02043ECAAEC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258D-4005-4305-9744-268B84DD6D5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9D84-95C8-4D4F-B66E-EE8BF7CB17E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A1A7-B5CF-450C-A9B7-5F8BC396817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BCED-8552-42F1-B9F5-6683AD55547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C9E4-A857-43F6-812D-77D1687A7CB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1F80-AC53-402B-A6F1-42109E042AC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7163-565B-454C-8EF5-E8DE5F3A12C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DB64-4BCC-4032-B281-F5D06B5E0C4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EFAB-B3E7-49EF-AC7F-DF838FF81A2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5E09-017F-4B16-B718-7738EDFCD92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BA25-B091-4EE0-98EE-11FEF2A968F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3C2B-72F8-4A7F-A5AB-C78E6E553B6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F81C-5D15-4A50-A7CA-231ABC217DE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4272-8C95-4C38-8F16-B6EE864F809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1495-E57E-4558-AECD-D9D5DDF5956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69F2-EF77-4497-BF9A-3F3EB87B456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4D55-EB13-479F-9C24-21DA89CD01A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9046-4F1E-4AF6-8FED-C6BBB485580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44CF-1B52-4EDC-B113-01158EB6A2F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5103-A47F-4843-8A74-8BF5441DE3E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337F-D56F-497A-A53B-AC49CD2AA73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8D66-36D4-4318-A823-1CE1D92B235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3C7C-DA47-4722-A39B-60378205D8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9E75-4FE8-4BEE-BEAB-93B0F0CCACE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4CCE-BE51-4834-9F76-E3806181E69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ED36-5076-4684-845D-FB7CA1242D8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CFE9-293F-40D5-8E7D-67117EB899A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1E57-B25B-4C59-A225-2E4068CEA7E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5689-9BA1-4D98-A9CD-C09BF82E8A1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9219-628B-4A71-8C89-19FC2614235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3FF9-F40A-4AB5-9A9C-EF832D0A2D3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1DBB-48F6-4E93-AB0D-1E38CA2ECDC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E47A-64C3-4173-B446-8BA9C08FA76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9086-0D63-4587-83A8-2619DDA27E8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9F9B-B4B8-4352-9C71-99ED1285909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F7BE-E8C1-4FB2-AE16-18D6DE0A31C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4340-8A37-4D72-ADDD-405696272A5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2A52-DA14-4546-9460-1B69981D255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19CD-2B4A-4BAD-952D-3374867EFFF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C5E5-141A-451F-A2B1-1DA0FC5CCC3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251A-C66E-4A14-BE21-3FB39BB6358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F5EF-502E-4078-8B31-3FA24DCF1E2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4E61-E7B2-4698-AFB1-9F8F0562608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F8EE-EC30-41AC-9A2C-00CE465E0E0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F95B-CC72-497F-911C-D2D861A7D58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C751-2FDD-4DE8-A19B-4F02D1203B3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3B4D1-62C5-4F4E-80D5-AD00FA53E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F6272-CA2A-406E-89DA-3A82D24E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79824-AFE4-4A55-99A1-DB74E9B9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EBDF-06D8-4D0D-A8B9-8B9B3F48F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4BAA-687E-4405-B429-198FCB30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1303-FED7-425F-8932-25DFF276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91F5-6050-4676-B6BA-642B11FC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B04F-2C6E-4927-9370-AE999AA8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52360-E082-4BA6-811B-BE050D10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3382-609B-4D0D-9A48-0C07204A8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5D44-6ED8-47CD-BB57-FA4DE584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1E84-2F92-4A80-8CFA-32A58BD85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47BC-48ED-49FC-9095-D5111D1C680C}"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queduc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35244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us group was persecuted by the Romans until the early 300’s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6094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make their empire easier to govern, Romans organized their lands into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vi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untry is Rome located 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a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38088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Punic Wars, Rome controlled this body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terranean S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Romans give their allies in exchange for soldiers &amp; tax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rot="189600">
            <a:off x="838080" y="304560"/>
            <a:ext cx="7315200" cy="3047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Fall of Ro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208000"/>
                </a:gradFill>
                <a:latin typeface="Impact"/>
              </a:rPr>
              <a:t>Review Game</a:t>
            </a:r>
            <a:endParaRPr b="1" lang="en-US" sz="2400" spc="1" strike="noStrike">
              <a:ln w="9360">
                <a:solidFill>
                  <a:srgbClr val="000000"/>
                </a:solidFill>
                <a:miter/>
              </a:ln>
              <a:gradFill rotWithShape="0">
                <a:gsLst>
                  <a:gs pos="0">
                    <a:srgbClr val="ffe701"/>
                  </a:gs>
                  <a:gs pos="100000">
                    <a:srgbClr val="fe3e02"/>
                  </a:gs>
                </a:gsLst>
                <a:lin ang="5208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6019920" y="5486400"/>
            <a:ext cx="2743200" cy="1219320"/>
          </a:xfrm>
          <a:custGeom>
            <a:avLst/>
            <a:gdLst>
              <a:gd name="textAreaLeft" fmla="*/ 78840 w 2743200"/>
              <a:gd name="textAreaRight" fmla="*/ 2664360 w 2743200"/>
              <a:gd name="textAreaTop" fmla="*/ 78840 h 1219320"/>
              <a:gd name="textAreaBottom" fmla="*/ 1140480 h 1219320"/>
            </a:gdLst>
            <a:ahLst/>
            <a:rect l="textAreaLeft" t="textAreaTop" r="textAreaRight" b="textAreaBottom"/>
            <a:pathLst>
              <a:path w="48587" h="21600">
                <a:moveTo>
                  <a:pt x="0" y="0"/>
                </a:moveTo>
                <a:lnTo>
                  <a:pt x="48587" y="0"/>
                </a:lnTo>
                <a:lnTo>
                  <a:pt x="48587" y="21600"/>
                </a:lnTo>
                <a:lnTo>
                  <a:pt x="0" y="21600"/>
                </a:lnTo>
                <a:close/>
              </a:path>
              <a:path fill="lightenLess" w="48587" h="21600">
                <a:moveTo>
                  <a:pt x="0" y="0"/>
                </a:moveTo>
                <a:lnTo>
                  <a:pt x="48587" y="0"/>
                </a:lnTo>
                <a:lnTo>
                  <a:pt x="47187" y="1400"/>
                </a:lnTo>
                <a:lnTo>
                  <a:pt x="1400" y="1400"/>
                </a:lnTo>
                <a:close/>
              </a:path>
              <a:path fill="darken" w="48587" h="21600">
                <a:moveTo>
                  <a:pt x="48587" y="0"/>
                </a:moveTo>
                <a:lnTo>
                  <a:pt x="48587" y="21600"/>
                </a:lnTo>
                <a:lnTo>
                  <a:pt x="47187" y="20200"/>
                </a:lnTo>
                <a:lnTo>
                  <a:pt x="47187" y="1400"/>
                </a:lnTo>
                <a:close/>
              </a:path>
              <a:path fill="darkenLess" w="48587" h="21600">
                <a:moveTo>
                  <a:pt x="48587" y="21600"/>
                </a:moveTo>
                <a:lnTo>
                  <a:pt x="0" y="21600"/>
                </a:lnTo>
                <a:lnTo>
                  <a:pt x="1400" y="20200"/>
                </a:lnTo>
                <a:lnTo>
                  <a:pt x="47187" y="20200"/>
                </a:lnTo>
                <a:close/>
              </a:path>
              <a:path fill="lighten" w="48587"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Roman laws, &amp; Rom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34596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barbarian general who destroyed the Western Roman Empire in 476 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doac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34596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was the event that split Christianity into the Catholic &amp; Orthodox Churche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Great Sch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38088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language spoken by the Romans was the basis for the modern languages of Spanish, French, and Italia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t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38088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lthough persecuted by Romans in the beginning, _______ eventually grew to become one of the world’s major religion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3808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omans frequently used this construction material in their build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cre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3808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kind of government was created by the Romans? (Hint: NOT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380880"/>
            <a:ext cx="80769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ublic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choosing the officials who govern th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iseum, Hagia Sophia, Pantheon, roads, aqueducts, public bat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3808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examples of Roman architecture (i.e. things they bui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38088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death of Emperor Marcus Aurelius, the _____ ________ came to an e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x Romana (Roman Pe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4954680"/>
            <a:ext cx="80773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What do the arrows represent in the map above?</a:t>
            </a:r>
            <a:endParaRPr b="1" lang="en-US" sz="4400" spc="-1" strike="noStrike">
              <a:solidFill>
                <a:srgbClr val="ff9933"/>
              </a:solidFill>
              <a:latin typeface="Times New Roman"/>
            </a:endParaRPr>
          </a:p>
        </p:txBody>
      </p:sp>
      <p:pic>
        <p:nvPicPr>
          <p:cNvPr id="171" name="Picture 2" descr=""/>
          <p:cNvPicPr/>
          <p:nvPr/>
        </p:nvPicPr>
        <p:blipFill>
          <a:blip r:embed="rId1"/>
          <a:stretch/>
        </p:blipFill>
        <p:spPr>
          <a:xfrm>
            <a:off x="762120" y="109440"/>
            <a:ext cx="7543800" cy="49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into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2952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a large number of slaves and overtaxing the poor led to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s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lac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Thing</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Problem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 Rom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mperors</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Rome’s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Legac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bellions by slaves &amp; the common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38088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problem with relying on barbarian mercenar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n’t always loyal or reli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hrinking empire &amp; barbarian invasions meant that farmer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3808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ldn’t grow enough food for the peo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enate killed _______ because they feared he would make himself empe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ulius Caes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38088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Starting with the rule of Emperor _______, Rome enjoyed a period of peace &amp; stability known as the Pax Roman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gustus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merly Octav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emperor divided the Roman Empire in hal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Romans call people who didn’t speak their language or share their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ocleti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380880"/>
            <a:ext cx="784872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emperor moved the capital of the Roman Empire east because it was easier to protect and was convenient for trad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nstant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emperor who made the split between East &amp; West “offici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odosi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380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astern Roman Empire was also known as _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yzantin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380880"/>
            <a:ext cx="75438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happened to the Eastern Empire after the Western Empire fell in 476?</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continued to survive for another 1,000 yea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3808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group of people were both allies and enemies of the Roman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1467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9" name="Text Box 3"/>
          <p:cNvSpPr/>
          <p:nvPr/>
        </p:nvSpPr>
        <p:spPr>
          <a:xfrm>
            <a:off x="762120" y="38088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Romans allow conquered peoples to keep their own customs &amp;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1" name="Text Box 3"/>
          <p:cNvSpPr/>
          <p:nvPr/>
        </p:nvSpPr>
        <p:spPr>
          <a:xfrm>
            <a:off x="762120" y="3808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cause doing so maintained the peace in the Empi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3" name="Text Box 3"/>
          <p:cNvSpPr/>
          <p:nvPr/>
        </p:nvSpPr>
        <p:spPr>
          <a:xfrm>
            <a:off x="609480" y="380880"/>
            <a:ext cx="80773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ich provinces were Romans strictest with? </a:t>
            </a:r>
            <a:endParaRPr b="1" lang="en-US" sz="60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loyal</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were rebelling or being invaded</a:t>
            </a:r>
            <a:endParaRPr b="1" lang="en-US" sz="5400" spc="-1" strike="noStrike">
              <a:solidFill>
                <a:srgbClr val="ff9933"/>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nes that didn’t grow crop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5"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s that were rebelling or being inva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7"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reasons that helped cause the Roman Empire’s downf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2" name="Text Box 3"/>
          <p:cNvSpPr/>
          <p:nvPr/>
        </p:nvSpPr>
        <p:spPr>
          <a:xfrm>
            <a:off x="685800" y="366840"/>
            <a:ext cx="7848720" cy="72493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rbarian invasions, rebellions, not enough money, slavery, corruptio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380880"/>
            <a:ext cx="7467480" cy="6277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 helped:</a:t>
            </a:r>
            <a:endParaRPr b="1" lang="en-US" sz="72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egions travel fast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nnect the Empire together</a:t>
            </a:r>
            <a:endParaRPr b="1" lang="en-US" sz="6000" spc="-1" strike="noStrike">
              <a:solidFill>
                <a:srgbClr val="ff9933"/>
              </a:solidFill>
              <a:latin typeface="Times New Roman"/>
            </a:endParaRPr>
          </a:p>
          <a:p>
            <a:pPr>
              <a:spcBef>
                <a:spcPts val="37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mprove trad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ved Stone Ro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3808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let Romans carry water to their cities from the countrys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09-12T22:02:16Z</dcterms:modified>
  <cp:revision>34</cp:revision>
  <dc:subject/>
  <dc:title>No Slide Title</dc:title>
</cp:coreProperties>
</file>