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1969-73D3-442D-9D3C-714B6AC54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B1B4-883C-4D31-A8DC-97C282D0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6B13-4F3A-4E86-B189-295FB2814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8388-F63A-433B-B11E-DE86EEFB5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31CE-E260-4686-973D-59897B1B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F080-60C1-4D38-A289-B7F68E6F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66B6-4BDB-4227-9D9E-9F627779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46B7-F859-4A3B-A766-9BDFCE59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A7DB-816E-4939-B2CB-426A31E7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1EB6-E7C1-494A-B611-044000A4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94B1-40B6-4363-BDBF-908D0328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EA4B-CA90-4ED2-9449-682B6062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3E2667-6DBB-477B-9E21-EC84F0C588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9F44B8-9866-4B75-ABD9-5C08D57963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naissance Essential Questions (7.8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214280"/>
            <a:ext cx="822960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was “humanism”? How did the rediscovery of ancient Greek &amp; Roman learning and art influence its growth during the Renaissanc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factors or things influenced the growth and spread of the Renaissance in Europe? How and wh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were some new ways of recording and spreading information that were invented during the Renaissance? Provide 4 examples and explain their import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 a list of 6-8 individuals from the Renaissance (writers, artists, scientists, inventors,  mathematicians, astronomers, etc.), describe what they did, and explain their importanc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17:09:18Z</dcterms:created>
  <dc:creator>Alliance</dc:creator>
  <dc:description/>
  <dc:language>en-US</dc:language>
  <cp:lastModifiedBy>Alliance</cp:lastModifiedBy>
  <dcterms:modified xsi:type="dcterms:W3CDTF">2012-02-06T23:03:10Z</dcterms:modified>
  <cp:revision>5</cp:revision>
  <dc:subject/>
  <dc:title>Medieval Europe Essential Questions</dc:title>
</cp:coreProperties>
</file>