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224-7069-4B68-B083-4370CAC3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F3D-B074-48F0-86D4-6D3197E9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4B9-10BB-4D82-9B5C-E488A6E7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46E-1C38-4ED3-BC77-FC48CFC7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841-4356-429F-90B1-8A8481B5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06C-2098-4FBB-82EE-B9E9DEF8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727-7ED3-49F1-9B2E-05297391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A53-7DB3-4AA7-90B4-C2A16308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B1C-DD7A-47A2-9D1D-BBCF5FFA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DB8-D868-4BAF-8121-8A00ABEE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A5C-BADE-4593-B271-733B21B1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244-CABA-4C74-816F-ABF9581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A216D-274A-4B72-BEC7-359E856034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D37BF-6BF7-4D34-A952-81237AF2B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naissance Essential Questions (7.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4280"/>
            <a:ext cx="822960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as “humanism”? How did the rediscovery of ancient Greek &amp; Roman learning and art influence its growth during the Renaiss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factors or things influenced the growth and spread of the Renaissance in Europe? How and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ere some new ways of recording and spreading information that were invented during the Renaissance? Provide 4 examples and explain their impor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a list of 6-8 individuals from the Renaissance (writers, artists, scientists, inventors,  mathematicians, astronomers, etc.), describe what they did, and explain their importan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7:09:18Z</dcterms:created>
  <dc:creator>Alliance</dc:creator>
  <dc:description/>
  <dc:language>en-US</dc:language>
  <cp:lastModifiedBy>Alliance</cp:lastModifiedBy>
  <dcterms:modified xsi:type="dcterms:W3CDTF">2012-02-06T23:03:10Z</dcterms:modified>
  <cp:revision>5</cp:revision>
  <dc:subject/>
  <dc:title>Medieval Europe Essential Questions</dc:title>
</cp:coreProperties>
</file>