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B4F-1FDE-4624-953C-693068FB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7F5-C1CA-4F09-81C8-7407E84E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A20C-9BD0-4802-B7CA-FE0ED661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2E8-C06A-4151-9043-3604BD17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2B6-3BF9-4998-AC47-EA2251A4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4B5A-041F-4D41-8421-568A5E0C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6C5B-F23A-4821-A495-0D320490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CF2-D0DB-4E69-A209-99A5C1DA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FBC1-0F5C-41AD-B651-A8A9A123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5587-6BA4-4DC0-AC9C-1B25C42E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9E9-7F4B-4E51-B59A-A7B533F8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183-647E-46E2-87F3-AAF3AFCF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F40DF-1EB1-4740-9955-F5F8679B5C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67B98-0A98-4950-902C-FBEE88A4A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naissance Essential Questions (7.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14280"/>
            <a:ext cx="822960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was “humanism”? How did the rediscovery of ancient Greek &amp; Roman learning and art influence its growth during the Renaissan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factors or things influenced the growth and spread of the Renaissance in Europe? How and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were some new ways of recording and spreading information that were invented during the Renaissance? Provide 4 examples and explain their import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a list of 6-8 individuals from the Renaissance (writers, artists, scientists, inventors,  mathematicians, astronomers, etc.), describe what they did, and explain their importan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7:09:18Z</dcterms:created>
  <dc:creator>Alliance</dc:creator>
  <dc:description/>
  <dc:language>en-US</dc:language>
  <cp:lastModifiedBy>Alliance</cp:lastModifiedBy>
  <dcterms:modified xsi:type="dcterms:W3CDTF">2012-02-06T23:03:10Z</dcterms:modified>
  <cp:revision>5</cp:revision>
  <dc:subject/>
  <dc:title>Medieval Europe Essential Questions</dc:title>
</cp:coreProperties>
</file>