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F590-56FE-4891-8093-8C214C9CCF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did Rome stop expanding? A.D. 1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843F-D288-46F2-862C-7300DF5F76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10C2-BD7B-4F1E-900F-3EE22047C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0FE1-F9AE-4B3E-90F4-77668979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9632-7000-4016-8B85-4EAAF4646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07CF-0761-40CA-B85F-C485BCC6A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382B-63E0-4C7B-BAAB-8F43EE359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1770-CAB2-4787-8325-43B2BBCB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FDA5-5CA2-4B84-888B-39CC2023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F143-34E8-4ADA-A701-7CFC5ADB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BF25-D86B-4433-93D7-CD9BD5EE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8B26-BAC8-42DD-A07C-D24F3431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353B-1206-4B6C-B7ED-F349AC8D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4A95-8BFA-443B-8345-4FE6B476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0F52-2699-4632-AEC9-62077E4C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52E4-BAFE-43E3-ABE6-D868F3CF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E633-643B-41F8-976D-E547158A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0390B-6390-4AF8-9B32-583BA69A3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17BB-5104-4A54-98EF-ED2B5448E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CD791-68F1-47DC-8C93-42968F949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146E9-7AAF-41DA-8ADB-DBF9E1A9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9A4BE-06F1-4293-84E4-5A24E2AB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EAD67-1D98-42F6-8811-0E4E2364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2CDD6-E255-4BF2-989D-5C9F1270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3413-A429-453F-9F5F-581473BD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80F81-EAB2-4414-822B-00F00BCD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ABE3C-EC5D-44C5-82B0-04A74286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FCD78-A794-4A3C-815D-79534B20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C0826-8E6C-4D72-B1AB-7A71E98E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861C5-7ED2-42AB-8F71-94F67AA9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024AC-DC5C-4DF4-A3A9-2E7427A71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CB13A-60F9-40D6-B08F-35AB1FF9A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D4023-5186-4D68-B305-ECDACB7A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231E7-85C3-4D03-A1E0-F584F276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EEBC7-C054-4953-9B62-8CF32AC4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5D51-45C3-4FFC-8A8F-5392124F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B8534-50ED-4B82-A520-E9F04B5E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C02C3-787F-44E1-A0DD-0809DE65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1E105-B959-43FF-909A-B1114082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CEE38-4820-4070-9E7E-A33187A6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BADF4-046E-4A5C-9DBD-C4C6D658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83E25-4427-42CC-8E52-29F531EF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5184F-E51F-47A1-9BA8-D91A7CEC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61A62-1FD6-409E-88A7-21037DC31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EC8D3-2008-4FD0-88BB-989CD374C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1E4EB-6A3D-42F3-8DA2-AC3B6782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FD2F-E65F-4FD2-9516-880FC163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6EE2C-DB96-422C-AA3A-66055D10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D9AAF-319D-4F76-9B5F-9CCB4A9A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E60CF-52C7-40F4-90A6-3B64373E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78DC6-C592-4AF1-AE12-3574AE3D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D12C7-8807-4D8D-946E-BB19BCC0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554BB-A788-4375-8140-E4E9B193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86664-7616-4D1D-8EE5-9EBD0427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463E7-BCAE-4223-BA5D-970A334F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93F94-8110-43E4-A907-C7838783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732E0-F7AC-44FB-9F0B-FF3CAE29B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5C27-FB71-48CC-8128-ABB21DFC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6E5B1-571F-4BAC-8AFB-8BAE623F9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CE06-BA1E-4750-B2BB-306172FB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074D-8DB6-4AFD-BFA4-3B3C0C57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37B3-8028-4C22-9786-B0CCB1C2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5cd2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5cd2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5cd2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43B6-CA1E-4D96-9AB0-4C4EC729AC12}" type="slidenum">
              <a:rPr b="0" lang="en-US" sz="1100" spc="-1" strike="noStrike">
                <a:solidFill>
                  <a:srgbClr val="575f6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5cd2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5cd2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5cd2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DDEE-E631-48A8-B6F4-4272B0A70DAB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5cd2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5cd2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5cd2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C948-A1D1-4B49-8329-57A6E5B50153}" type="slidenum">
              <a:rPr b="0" lang="en-US" sz="1100" spc="-1" strike="noStrike">
                <a:solidFill>
                  <a:srgbClr val="575f6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f39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5cd2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5cd2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5cd2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06FC-85D4-4DA8-8B32-BE656A63FD79}" type="slidenum">
              <a:rPr b="0" lang="en-US" sz="1100" spc="-1" strike="noStrike">
                <a:solidFill>
                  <a:srgbClr val="fff39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5cd2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5cd2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5cd2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AAD4-215E-49B3-8E99-6D27C03F5C0C}" type="slidenum">
              <a:rPr b="0" lang="en-US" sz="1100" spc="-1" strike="noStrike">
                <a:solidFill>
                  <a:srgbClr val="575f6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3084480" y="530280"/>
            <a:ext cx="5821560" cy="28782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560"/>
            <a:ext cx="7238880" cy="50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oman expansion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Punic War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5cd2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arthage vs. Rom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5cd2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omans won &amp; gained control over Mediterranean Se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Julius Caesar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5cd2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oman general who made himself dictat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5cd2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ssassinated (i.e. murdered) by Senate, who feared he would make himself emper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Augustus &amp; the Pax Romana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5cd2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ugustus: first emper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5cd2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ax Romana: period of peace &amp; stability that lasted almost 200 yea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808760" cy="1150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Video – “DE – The Pax Romana” (4:10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rebuchet MS"/>
              </a:rPr>
              <a:t>TAKE NOTES </a:t>
            </a: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(I will be calling on students to share what they learned)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ow long did the Pax Romana last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happened during the Pax Romana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en did Rome stop expanding? Why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Rome stopped expanding in 106 C.E. b/c…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else did you learn in the video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808760" cy="1150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rdinary Romans got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New jobs, better housing, free grain (</a:t>
            </a:r>
            <a:r>
              <a:rPr b="1" lang="en-US" sz="2300" spc="-1" strike="noStrike">
                <a:solidFill>
                  <a:srgbClr val="000000"/>
                </a:solidFill>
                <a:latin typeface="Trebuchet MS"/>
              </a:rPr>
              <a:t>the Dole</a:t>
            </a: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), free public bath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Massive building program in Rome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5cd2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rble from nearby hills for palaces, theaters, shrines, and public bath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3"/>
          <a:stretch/>
        </p:blipFill>
        <p:spPr>
          <a:xfrm>
            <a:off x="3657600" y="0"/>
            <a:ext cx="5486400" cy="43340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4"/>
          <a:stretch/>
        </p:blipFill>
        <p:spPr>
          <a:xfrm>
            <a:off x="0" y="1990800"/>
            <a:ext cx="6496200" cy="48672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"/>
          <p:cNvPicPr/>
          <p:nvPr/>
        </p:nvPicPr>
        <p:blipFill>
          <a:blip r:embed="rId5"/>
          <a:stretch/>
        </p:blipFill>
        <p:spPr>
          <a:xfrm>
            <a:off x="3909960" y="3505320"/>
            <a:ext cx="52340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30492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Augustus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(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rebuchet MS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emperor, founded Praetorian guard)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27 BCE - 14 C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iberiu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14-37 C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aligula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37-41 C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audiu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41-54 C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ero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54-68 C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ear of Four Emperor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69 C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Vespasian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(Founder of Flavian dynasty)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69-79 C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itu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79-81 C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omitian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81-96 C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erva (96-98 CE) – became emperor at age 65 &amp; tried to pass reforms in Rom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rajan (98-117 CE) – extended Roman empire to largest siz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adrian (117-138 CE) – Hadrian’s Wall in England, Panthe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ntoninus Pius (138-161 CE) – reign was most peaceful during entire Imperial perio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arcus Aurelius (161-180 CE) – philosopher-k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10120" indent="-223920">
              <a:lnSpc>
                <a:spcPct val="90000"/>
              </a:lnSpc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Death of Marcus Aurelius marks end of Pax Romana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8236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Mixed bag” of Roman emperor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6c6c"/>
                </a:solidFill>
                <a:latin typeface="Trebuchet MS"/>
              </a:rPr>
              <a:t>Some attempted to make changes/reforms</a:t>
            </a:r>
            <a:endParaRPr b="0" lang="en-US" sz="32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5cd2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imit power of Praetorian Guard, protect borders of empire,  etc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6c6c"/>
                </a:solidFill>
                <a:latin typeface="Trebuchet MS"/>
              </a:rPr>
              <a:t>Others made things worse</a:t>
            </a:r>
            <a:endParaRPr b="0" lang="en-US" sz="32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5cd2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stly wars with other peoples, slaughtering innocent people, etc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02:48:16Z</dcterms:created>
  <dc:creator>Wesley Banh</dc:creator>
  <dc:description/>
  <dc:language>en-US</dc:language>
  <cp:lastModifiedBy>Wesley Banh</cp:lastModifiedBy>
  <dcterms:modified xsi:type="dcterms:W3CDTF">2010-09-07T03:45:49Z</dcterms:modified>
  <cp:revision>10</cp:revision>
  <dc:subject/>
  <dc:title>Diocletian &amp; the Division of the Roman Empire</dc:title>
</cp:coreProperties>
</file>