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1BA-307A-4AE9-9B7A-9D187237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4EB-2985-4A68-9890-BD88DAC9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8A0-2068-4425-89CB-9CF5EE4E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F19-36EB-44D1-9ACE-64E8B199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EC59-293B-47D9-B127-AD942738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5F38-0479-49CF-A847-8A27742B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3E9E-0FCE-4DB8-B602-29E9945B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A701-19C3-4FAA-995B-43CFBE25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7CA8-410D-4272-BF3D-82F6CFFF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F9D4-A45B-40C4-A20F-0C5F0E59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8D44-E174-41CC-8D58-76AA7C1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8D4-684A-4A3D-B0F6-636E242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D70C-7677-47FD-BF77-ED3F81FA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CD64-7327-492E-8CB2-04E6EA1D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3659-AA1E-4EE6-AD7B-18232AC0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A587-3C3F-4BAA-89D7-79FF3CD2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4F16-2AD4-498C-AC0C-03FA2E3E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2C14-86A5-470F-A010-4BFB5DA2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523D-4ABB-4343-B792-5EEFFA36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8A62-7BAC-441E-8882-FF10671A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420A-BFD9-4D1A-AAA0-CDFA2A0A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E7E3-D2CC-4B74-B3BF-644328F2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1D3-4083-4209-B120-F7A1518E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9A76-F205-4D87-B18E-EE083AD1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062B-EAD1-4730-8630-1C920CC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CFB4-C942-415B-99CF-FFBF1380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06F65-CAD1-49DF-889F-878915E9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5662-3D08-4FA4-B959-E06F9D1F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33BF-0510-44B3-ADCD-95032325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8394-37E1-423E-AA29-3EDDF8E7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33B71-1E25-4FF7-9169-6EECC748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5A28C-7D14-40BB-B458-F59AAAC2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76C12-AC87-4162-A282-CAECC2BC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223-1545-4D45-9081-57EA668D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4586-6AF5-404D-A787-2048AEC1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DAA1A-1A2D-4351-9423-6DB9922E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57F10-F564-46E5-97C9-D1870182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36020-A340-46AB-8823-A5096272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58C4A-2F15-4E15-8FE9-CB5E81E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0BEE-5C67-4AA5-9C52-7282DCD0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365DE-E6B2-4AC2-9437-E0B4A2F7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575F2-6E92-4A19-836D-8253734E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23825-67A8-4211-AEBB-09B489DC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F2C-FD68-48B3-8D1A-6305A97B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30E-3218-4BC7-98B7-582636B9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06F-2B7D-4646-BC7B-4A8FE079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331-61B2-4670-A3B8-931548DF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410-EDE1-47EE-BF99-DE6DF912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1742-CAF2-4ED8-8F3D-25FC1D0376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1AB9-CFDD-4AEE-AF8E-B1660CCA9BB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7F70-1EEE-4B8A-A209-40D58553681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9ED0-142A-4078-ABE8-B5E2E7617AC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ory video cli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 – Ancient Rome’s Decline” (6:11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ew of Roman weaknesses &amp; overview of Diocleti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 (284-305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495680" y="1934640"/>
            <a:ext cx="42674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orn a common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nt into military &amp; eventually became commander of emperor’s bodyguar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fter the emperor’s death, the army elected Diocletian emper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734080" y="228600"/>
            <a:ext cx="3333600" cy="1600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581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’s 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onom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ried reissuing new Roman coins b/c old ones were almost worthl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dn’t work so well b/c not enough gold &amp; silver to support new coi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ocia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ade certain jobs (e.g. farmer, soldier, etc.) hereditary b/c of their importance to Roman Emp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olitica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divided Roman Empire into two halves (East &amp; West) &amp; reorganized provi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ligious Persecu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ced Christians to sacrifice to “old gods” or face imprisonment &amp; exec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troyed Christian churches &amp; holy boo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nned Christians from worshipping toge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 &amp; The Tetrarc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lt empire was too big for one person to contr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ided empire into two halves to be ruled independent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erors &amp; their deputies moved wherever they were needed instead of being in the capital c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deputy was also the heir of the current emper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Content Placeholder 3" descr="Byzantine_Empire_animated.gif"/>
          <p:cNvPicPr/>
          <p:nvPr/>
        </p:nvPicPr>
        <p:blipFill>
          <a:blip r:embed="rId1"/>
          <a:srcRect l="8241" t="0" r="0" b="0"/>
          <a:stretch/>
        </p:blipFill>
        <p:spPr>
          <a:xfrm>
            <a:off x="136440" y="1752480"/>
            <a:ext cx="8702640" cy="49942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5638680" y="2133720"/>
            <a:ext cx="312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eror: Dioclet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: Gale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990720" y="1905120"/>
            <a:ext cx="3124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eror: Maxim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: Constant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own Arrow 6"/>
          <p:cNvSpPr/>
          <p:nvPr/>
        </p:nvSpPr>
        <p:spPr>
          <a:xfrm>
            <a:off x="2590920" y="2743200"/>
            <a:ext cx="838080" cy="9907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55a839"/>
          </a:solidFill>
          <a:ln w="2556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own Arrow 7"/>
          <p:cNvSpPr/>
          <p:nvPr/>
        </p:nvSpPr>
        <p:spPr>
          <a:xfrm>
            <a:off x="6477120" y="3048120"/>
            <a:ext cx="838080" cy="13716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55a839"/>
          </a:solidFill>
          <a:ln w="2556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ocletian’s Later Life &amp; Leg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ter lif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tired after 21 years of being emper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e of the few Roman emperors (after the end of the Pax Romana) to die peaceful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forms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with good intentions, but fail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etrarchy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apsed after Diocletian’s retir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vil war broke out &amp; lasted until Constantine the Great reunited both halves of the Roman Empire in 324 C.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2:48:16Z</dcterms:created>
  <dc:creator>Wesley Banh</dc:creator>
  <dc:description/>
  <dc:language>en-US</dc:language>
  <cp:lastModifiedBy>Wesley Banh</cp:lastModifiedBy>
  <dcterms:modified xsi:type="dcterms:W3CDTF">2010-09-07T04:57:10Z</dcterms:modified>
  <cp:revision>17</cp:revision>
  <dc:subject/>
  <dc:title>Diocletian &amp; the Division of the Roman Empire</dc:title>
</cp:coreProperties>
</file>