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736B-1FA7-4A2B-9B52-9ECC74DC1C1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9B8E-AE23-415A-8CDC-CB1A1AC93EA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A3E4-5BDE-47C2-ABF6-67C42561C3C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4477-B26C-4F46-9B9E-4F1D4049B32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E584-615D-4AD3-BD86-E082818D9DE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AEA9-64BE-4A27-BADA-1CB845178C8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C3A-C10B-4B51-92CC-FA695EFB5F7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B228-2229-47D7-AA10-3FBA6860BD3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AB54-F36C-4247-AA42-EDA5737A450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BB48-B8E6-41DB-B803-BBF121C63AA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AE70-6362-4E43-BF42-1DB1D079ED4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6BF9-644E-4C96-BD94-EC7E7136A5A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E045-CDAB-402E-B17B-54B6E268BC3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2800-97F5-4691-B23D-5D934734105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67A6-C5ED-435E-9171-3FCA9BD74C8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77A0-4A25-4FAC-BCA4-1DE07D50E3C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8856-1C91-45D9-A203-B2A8E5444C3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3EE0-ABD3-4D1F-BC9C-22D890FA2E4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D95D-6F0D-4A2A-9199-95F949674D4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063C-6FA9-4C3E-9CD4-4A8857D5754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0F4C-BB7B-421C-8F66-2F8644C8ED3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D197-2B77-4B88-A0B8-CA149811E53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C60A-9569-43D1-83D3-56757FDDDC2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2B69-36D0-4505-BCFC-8CC72872C91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9ECB-4609-4BA6-864B-46B40B23615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FEDD-6B78-4321-BCDF-343D5671144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36ED-0CE2-4B25-A4CC-D1D986C89A0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85F2-B497-4983-8868-5DD52F25E77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B232-1831-4C4F-B9E6-3F23B6FB7F8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5F5F-576C-444A-A57A-3776BD3E8E9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4335-5DE7-4948-B2B1-AD9157B5DFD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BFA6-0C81-4465-A158-8D02832771F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5757-E786-4169-93BD-4EB53EC3D1D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D5FC-A556-4074-979A-59D0F7D4443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E70E-9A12-4419-BEA5-35887BA30CB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BF19-C3B4-4E5F-8E6A-3EF9E473831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557C-AB52-4E64-84C1-2481DFD17EB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655C-A405-4D60-ABD8-19080961036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AAE9-342E-43EB-94D7-F18E1452665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52FB-C16C-4C4A-8038-5DDA5668677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487E-EBEE-4935-B3F3-47BA4058997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889D-9C69-4596-9948-07320EEF948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F4B7-9546-4EDD-9265-163AF35E72E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E22D-A172-4394-A9D7-B534E617879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6B06-26E3-4025-B1C9-76897D1544A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B8B3-089A-4DFE-B32A-0FC0EE7C419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7D50-9305-4B82-9B95-D9FB7B2DD72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788C-7246-4352-A946-DC6D708CDB3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B234-1593-4012-834D-FB613783638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362F-89B1-45A9-A0C4-889EBF464B8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02EB-20E3-4068-ADF8-BAEEEE72183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F659-46F8-45FF-857D-F29D308B1DE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94FD-7FDB-4646-A357-5ABEB751A90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4639-9777-4F0A-9246-FBB8B61FBE9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6934-1C1D-4845-9E8D-FEF8C902607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2AEB-C7C6-4D49-A309-04D64E10E63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CA3C-9109-4BC0-A20A-938CC8995E7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6567-2C8C-44B6-939A-AFD72F2B091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22A9-17C5-4353-BF2C-847B3FB66EF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8F31-E268-4DFA-A453-A3CDEE8DEF4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7D87-307C-4BB0-82C5-B4F1010AEC3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58B2-0900-4E52-B55D-D665C0DE067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C34D-D60B-45BB-B394-A71A77F2ED5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93BC-E807-4A13-B258-67A1A8D74AB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1A73-558D-4BA5-85BB-BBAA13C9D96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B506-465E-4187-A17D-28511261C3C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6435-3DDF-4FC0-97B5-0913E257A3B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6CA5-CF4A-4DC3-BD29-C51EDB9A71A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9791E-774D-4276-898E-FB0335D8E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5AC87-CCBE-4648-B48F-166680F4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22348-5F8A-4C89-988A-9BC8B11E1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1BC9B-2833-4023-BAE7-094BB06A3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18EFF-973E-445B-85C4-A54866DE6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ED1E5-0C5C-4CDF-90A9-479A00504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534F7-55C9-4948-BF13-BDDAE38C6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F610-38A8-4B08-9B7F-D81B965F2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6BEC-BF13-4D9D-9265-DC740764C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EFBAF-8249-4A9F-9B16-E28B33D4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D88D-CA69-4498-A1D1-89E6A74F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0A96-1621-4CD1-86BE-746781D9A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D270-02FF-4A02-B02B-AE4DA94280DE}"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queduc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35244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us group was persecuted by the Romans until the early 300’s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6094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make their empire easier to govern, Romans organized their lands into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vin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ountry is Rome located 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a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38088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Punic Wars, Rome controlled this body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diterranean S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the Romans give their allies in exchange for soldiers &amp; tax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rot="189600">
            <a:off x="838080" y="304560"/>
            <a:ext cx="7315200" cy="3047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Fall of Ro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Review Ga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6019920" y="5486400"/>
            <a:ext cx="2743200" cy="1219320"/>
          </a:xfrm>
          <a:custGeom>
            <a:avLst/>
            <a:gdLst>
              <a:gd name="textAreaLeft" fmla="*/ 78840 w 2743200"/>
              <a:gd name="textAreaRight" fmla="*/ 2664360 w 2743200"/>
              <a:gd name="textAreaTop" fmla="*/ 78840 h 1219320"/>
              <a:gd name="textAreaBottom" fmla="*/ 1140480 h 1219320"/>
            </a:gdLst>
            <a:ahLst/>
            <a:rect l="textAreaLeft" t="textAreaTop" r="textAreaRight" b="textAreaBottom"/>
            <a:pathLst>
              <a:path w="48587" h="21600">
                <a:moveTo>
                  <a:pt x="0" y="0"/>
                </a:moveTo>
                <a:lnTo>
                  <a:pt x="48587" y="0"/>
                </a:lnTo>
                <a:lnTo>
                  <a:pt x="48587" y="21600"/>
                </a:lnTo>
                <a:lnTo>
                  <a:pt x="0" y="21600"/>
                </a:lnTo>
                <a:close/>
              </a:path>
              <a:path fill="lightenLess" w="48587" h="21600">
                <a:moveTo>
                  <a:pt x="0" y="0"/>
                </a:moveTo>
                <a:lnTo>
                  <a:pt x="48587" y="0"/>
                </a:lnTo>
                <a:lnTo>
                  <a:pt x="47187" y="1400"/>
                </a:lnTo>
                <a:lnTo>
                  <a:pt x="1400" y="1400"/>
                </a:lnTo>
                <a:close/>
              </a:path>
              <a:path fill="darken" w="48587" h="21600">
                <a:moveTo>
                  <a:pt x="48587" y="0"/>
                </a:moveTo>
                <a:lnTo>
                  <a:pt x="48587" y="21600"/>
                </a:lnTo>
                <a:lnTo>
                  <a:pt x="47187" y="20200"/>
                </a:lnTo>
                <a:lnTo>
                  <a:pt x="47187" y="1400"/>
                </a:lnTo>
                <a:close/>
              </a:path>
              <a:path fill="darkenLess" w="48587" h="21600">
                <a:moveTo>
                  <a:pt x="48587" y="21600"/>
                </a:moveTo>
                <a:lnTo>
                  <a:pt x="0" y="21600"/>
                </a:lnTo>
                <a:lnTo>
                  <a:pt x="1400" y="20200"/>
                </a:lnTo>
                <a:lnTo>
                  <a:pt x="47187" y="20200"/>
                </a:lnTo>
                <a:close/>
              </a:path>
              <a:path fill="lighten" w="48587"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ion, Roman laws, &amp; Roman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34596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barbarian general who destroyed the Western Roman Empire in 476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doac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345960"/>
            <a:ext cx="80769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was the event that split Christianity into the Catholic &amp; Orthodox Churche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Great Sch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380880"/>
            <a:ext cx="792504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language spoken by the Romans was the basis for the modern languages of Spanish, French, and Italia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t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38088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lthough persecuted by Romans in the beginning, _______ eventually grew to become one of the world’s major religion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Romans frequently used this construction material in their build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cre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380880"/>
            <a:ext cx="80769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kind of government was created by the Romans? (Hint: NOT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380880"/>
            <a:ext cx="80769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ublic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choosing the officials who govern th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iseum, Hagia Sophia, Pantheon, roads, aqueducts, public bat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examples of Roman architecture (i.e. things they bui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3808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death of Emperor Marcus Aurelius, the _____ ________ came to an e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x Romana (Roman Pea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4954680"/>
            <a:ext cx="80773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What do the arrows represent in the map above?</a:t>
            </a:r>
            <a:endParaRPr b="1" lang="en-US" sz="4400" spc="-1" strike="noStrike">
              <a:solidFill>
                <a:srgbClr val="ff9933"/>
              </a:solidFill>
              <a:latin typeface="Times New Roman"/>
            </a:endParaRPr>
          </a:p>
        </p:txBody>
      </p:sp>
      <p:pic>
        <p:nvPicPr>
          <p:cNvPr id="171" name="Picture 2" descr=""/>
          <p:cNvPicPr/>
          <p:nvPr/>
        </p:nvPicPr>
        <p:blipFill>
          <a:blip r:embed="rId1"/>
          <a:stretch/>
        </p:blipFill>
        <p:spPr>
          <a:xfrm>
            <a:off x="762120" y="109440"/>
            <a:ext cx="7543800" cy="49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into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12952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a large number of slaves and overtaxing the poor led to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rso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lac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Thing</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Problem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n Rom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mperors</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Rome’s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Legac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bellions by slaves &amp; the common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38088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problem with relying on barbarian mercenar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n’t always loyal or reli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hrinking empire &amp; barbarian invasions meant that farmer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3808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ldn’t grow enough food for the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enate killed _______ because they feared he would make himself emper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ulius Caes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38088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Starting with the rule of Emperor _______, Rome enjoyed a period of peace &amp; stability known as the Pax Roman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ugustus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rmerly Octav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emperor divided the Roman Empire in hal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Romans call people who didn’t speak their language or share their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oclet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380880"/>
            <a:ext cx="784872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emperor moved the capital of the Roman Empire east because it was easier to protect and was convenient for trade.</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stant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emperor who made the split between East &amp; West “offici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odosi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Eastern Roman Empire was also known as _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yzantin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happened to the Eastern Empire after the Western Empire fell in 476?</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 continued to survive for another 1,000 yea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group of people were both allies and enemies of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1467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9" name="Text Box 3"/>
          <p:cNvSpPr/>
          <p:nvPr/>
        </p:nvSpPr>
        <p:spPr>
          <a:xfrm>
            <a:off x="762120" y="38088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Romans allow conquered peoples to keep their own customs &amp;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1" name="Text Box 3"/>
          <p:cNvSpPr/>
          <p:nvPr/>
        </p:nvSpPr>
        <p:spPr>
          <a:xfrm>
            <a:off x="762120" y="3808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cause doing so maintained the peace in th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3" name="Text Box 3"/>
          <p:cNvSpPr/>
          <p:nvPr/>
        </p:nvSpPr>
        <p:spPr>
          <a:xfrm>
            <a:off x="609480" y="380880"/>
            <a:ext cx="807732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ich provinces were Romans strictest with? </a:t>
            </a:r>
            <a:endParaRPr b="1" lang="en-US" sz="60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loyal</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rebelling or being invaded</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didn’t grow crop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5"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nes that were rebelling or being invad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7"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reasons that helped cause the Roman Empire’s downf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2" name="Text Box 3"/>
          <p:cNvSpPr/>
          <p:nvPr/>
        </p:nvSpPr>
        <p:spPr>
          <a:xfrm>
            <a:off x="685800" y="366840"/>
            <a:ext cx="7848720" cy="72493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rebellions, not enough money, slavery, corrup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380880"/>
            <a:ext cx="7467480" cy="62776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 helped:</a:t>
            </a:r>
            <a:endParaRPr b="1" lang="en-US" sz="72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Legions travel fast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onnect the Empire togeth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mprove trad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ved Stone Ro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3808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let Romans carry water to their cities from the countrys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22:02:16Z</dcterms:modified>
  <cp:revision>34</cp:revision>
  <dc:subject/>
  <dc:title>No Slide Title</dc:title>
</cp:coreProperties>
</file>