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0820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31E-86F3-4F03-AB83-76E1DA2A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96B-DC39-4570-ACDE-EFE17788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1CA-EB78-4152-96D5-1F474043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09F-4C15-44EE-99D9-7C21D929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374-06F9-4311-9665-DF9E4203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38B-6575-4294-B5AA-AAD4E3B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DBE-ADB3-438C-85A1-A869D7EB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CE3-F943-4961-BC44-53F0DC4C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A91-AE68-4221-B156-93E9427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31F-2943-4730-8691-F7466A1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FE7-B09C-4BFD-97D0-FF45438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F3B-BC74-4B12-9470-B690CE8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DC9-7DFB-4D2C-908C-8D488719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yzantin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Fall of R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zantine Empire Weak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(Arabs, Turks, Russians, Crusader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own military &amp; relied on 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sades (Sack of Constantinople in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us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empe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87440" y="457200"/>
            <a:ext cx="83516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fall &amp;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Constantinople (14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hmed II &amp; Ottoman Turks laid siege to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 through walls using cann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ine XI (last Byzantine Emperor) died defending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cy of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Western Europe from eastern invaders [for a ti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ces on art, architecture, &amp; religion still se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Fall of R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040" y="1784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 weakened b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doa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arbarian general) invades Rome &amp; makes self king in 476 C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: Inside Byzant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ligions or cultures did the Byzantine Empire borrow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capital of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Hagia So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ntry was later influenced by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Crus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efeated the Byzantine Empire and w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– from city of Byzan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med Constantinople by Constantine (300’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renamed Istanbul by Turks (after 14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 language: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 blend of Greek, Roman,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e (ruled ~306-3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nited Roman Empire after defeating Western Roman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Christianity &amp; stopped persecuting Christ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d capital to Constantin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reforms i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more stable money (the solid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organized government &amp;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apital of Empire founded by Constantine because it w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def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along many trade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d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Engineering an Empire – Byzantines (12:50-20: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dosius (378-39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emperor to “officially” rule over both halves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hristianity official religion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laws again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ag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.e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Christ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a saint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ed Theodora (burlesque danc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ecuted non-Christians &amp; passed “morality 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d to reconquer western part of Roman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d taxes &amp; “squeezed” people fo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ioted in Hippodrome, Theodora persuaded Justinian not to flee, &amp; put down reb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y conquests successful, but also bankrupted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ia Soph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“Church of Holy Wisdo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us Juris Civilis (Code of Justinia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laws written during Roman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s of modern civil law (written &amp; collected la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5:19:55Z</dcterms:created>
  <dc:creator>Wesley Banh</dc:creator>
  <dc:description/>
  <dc:language>en-US</dc:language>
  <cp:lastModifiedBy>Wesley Banh</cp:lastModifiedBy>
  <dcterms:modified xsi:type="dcterms:W3CDTF">2010-09-13T05:24:40Z</dcterms:modified>
  <cp:revision>3</cp:revision>
  <dc:subject/>
  <dc:title>The Byzantine Empire</dc:title>
</cp:coreProperties>
</file>