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0820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D2C-0225-4D2C-956D-829C12C4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EDA-C523-4CF9-BD03-1093051D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C7B-A448-4161-A6E2-37BBF835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D1-2453-4CC8-8BC1-7023A1E7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74B-172A-4353-88D5-9E5ADF1F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2B8-F859-46D5-9926-713B38BD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A0F-7293-4CE9-9EE2-9821971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ADD-9050-4730-AB71-040B234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CD5-998A-4EAE-AC2A-CEBFD30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D2F-9B2D-4827-B4B8-D7E2C65C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7BE-3F6D-4ED8-B86D-D8A1848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426-425E-4767-BCFD-FC25892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F5F-8877-43B8-8EED-E24CEFB0A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yzantin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Fall of R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zantine Empire Weak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(Arabs, Turks, Russians, Crusader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own military &amp; relied on 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sades (Sack of Constantinople in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us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empe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87440" y="457200"/>
            <a:ext cx="83516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fall &amp;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Constantinople (14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hmed II &amp; Ottoman Turks laid siege to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 through walls using cann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ine XI (last Byzantine Emperor) died defending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cy of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Western Europe from eastern invaders [for a ti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ces on art, architecture, &amp; religion still se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Fall of R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040" y="1784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 weakened b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doa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arbarian general) invades Rome &amp; makes self king in 476 C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: Inside Byzant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ligions or cultures did the Byzantine Empire borrow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capital of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Hagia So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ntry was later influenced by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Crus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efeated the Byzantine Empire and w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– from city of Byzan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med Constantinople by Constantine (300’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renamed Istanbul by Turks (after 14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 language: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 blend of Greek, Roman,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e (ruled ~306-3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nited Roman Empire after defeating Western Roman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Christianity &amp; stopped persecuting Christ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d capital to Constantin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reforms i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more stable money (the solid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organized government &amp;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apital of Empire founded by Constantine because it w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def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along many trade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d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Engineering an Empire – Byzantines (12:50-20: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dosius (378-39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emperor to “officially” rule over both halves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hristianity official religion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laws again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ag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.e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Christ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a saint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ed Theodora (burlesque danc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ecuted non-Christians &amp; passed “morality 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d to reconquer western part of Roman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d taxes &amp; “squeezed” people fo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ioted in Hippodrome, Theodora persuaded Justinian not to flee, &amp; put down reb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y conquests successful, but also bankrupted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ia Soph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“Church of Holy Wisdo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us Juris Civilis (Code of Justinia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laws written during Roman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s of modern civil law (written &amp; collected la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5:19:55Z</dcterms:created>
  <dc:creator>Wesley Banh</dc:creator>
  <dc:description/>
  <dc:language>en-US</dc:language>
  <cp:lastModifiedBy>Wesley Banh</cp:lastModifiedBy>
  <dcterms:modified xsi:type="dcterms:W3CDTF">2010-09-13T05:24:40Z</dcterms:modified>
  <cp:revision>3</cp:revision>
  <dc:subject/>
  <dc:title>The Byzantine Empire</dc:title>
</cp:coreProperties>
</file>