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3AE-E7E1-4054-85AB-53DBD0E7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0D1-2FAE-4B38-B187-B0CFABF2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45F-AAC0-44E7-A81C-55A17297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EEC-7046-4673-874F-78B05053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2406-2208-4DD6-869F-B3B566AD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89A-0426-410E-9A8C-0F0C6259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F94C-E5A5-43A5-945F-2C52C75F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B05-A95F-44A7-A1F6-CD49305C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43C-833D-445C-82AF-B6460456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E02-1757-4A6F-B5D4-EE551715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A6E-1899-4790-8958-9F2A0D33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004-BD49-4474-92E2-2E1BF78B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F74A-5DD6-4276-AC35-305DB0C09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andards 7.2.4 &amp; 7.2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slim Expan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quest &amp;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0520" y="176040"/>
            <a:ext cx="9047160" cy="65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5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is Arabia’s location good for tra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ere some of the things people trad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than trade goods, what else might travel along these rout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 Questions: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22234" t="15811" r="2176" b="2056"/>
          <a:stretch/>
        </p:blipFill>
        <p:spPr>
          <a:xfrm>
            <a:off x="3962520" y="1693800"/>
            <a:ext cx="50292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quered N. Africa,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berian Peninsul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&amp; Central A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mpire based on strong government, common language (Arabic), &amp; using same kind of money across entire emp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ll b/c of religious &amp; political differe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750 C.E.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Abassid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efeated Umayya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Vocabular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Iberian Peninsul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p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Bureaucrac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ystem of agencies/people who do work of govern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Emi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uslim governors of Umayyad provi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ap: The Umayyads (pp. 113-11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4582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werful empire with capital in Baghda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ulture was very advanced (art, lit., math, medicin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ak leaders led to dynasty’s fall to Fatimids &amp; Tur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Vocabulary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ghda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pital of Abbasid Dynas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tanding arm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my kept during times of peace AND w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olden 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eriod when society/culture is at its b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alligraph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ncy hand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mar Khayy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mous Persian po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ac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posing (or enemy)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The Abbasids (pp. 119-12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64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7520" y="152280"/>
            <a:ext cx="909648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052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mayyad gov’t in Spai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“al-Andalus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ed by Abd al-Rahman, who united Spanish Muslims &amp; built huge standing army to protect emp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rdoba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enter of Muslim trade, culture, &amp; learn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ndreds of workshops &amp; good farms in countryside and HUGE libraries &amp; many scholars in 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ces in math, geography, medicin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ell apart b/c of Christian attacks &amp; Muslim fac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Vocabulary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l-Andal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rdob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pital city of al-Anda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ap: Muslims in Spain (pp. 131-13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1523880"/>
          <a:ext cx="8229600" cy="3535560"/>
        </p:xfrm>
        <a:graphic>
          <a:graphicData uri="http://schemas.openxmlformats.org/drawingml/2006/table">
            <a:tbl>
              <a:tblPr/>
              <a:tblGrid>
                <a:gridCol w="2971800"/>
                <a:gridCol w="52578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Idea/Wo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Definition/Mean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were cities usually located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ng trade rout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ar water (hint: near an </a:t>
                      </a: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OASIS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ople who lived in cities are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dentary peop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n as city-dwellers (merchants, artisans, the rich, etc.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ies were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ers of trad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wth of C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6:21:42Z</dcterms:created>
  <dc:creator>Wesley Banh</dc:creator>
  <dc:description/>
  <dc:language>en-US</dc:language>
  <cp:lastModifiedBy>Wesley Banh</cp:lastModifiedBy>
  <dcterms:modified xsi:type="dcterms:W3CDTF">2010-09-30T06:23:36Z</dcterms:modified>
  <cp:revision>2</cp:revision>
  <dc:subject/>
  <dc:title>Muslim Expansion:  Conquest &amp; Trade</dc:title>
</cp:coreProperties>
</file>