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FCB-6ECD-4DCE-BD0E-1EF063DD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820-EDD6-4F5F-8F91-93DD2A2C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599-0449-440A-A388-41E947D7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FB6-1817-45CD-B548-13AC0F27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7CA-53A5-4263-9D16-15B83AEA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602-1C16-43BB-8E76-EBB4EC58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763-978D-4F1E-876B-93871C71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C63-17CD-4EE9-9E30-0CFF5A32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965-D6EB-49CD-81D6-EE0793EC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8A7-8A6E-4F6A-AA6E-8B22AD2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AF9-CB30-4858-9D73-4BC88B1C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4C3-F0B6-4E43-B1C4-98C9651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4538-865B-49E5-A346-13E4D0C98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andards 7.2.4 &amp; 7.2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lim Expan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quest &amp;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520" y="176040"/>
            <a:ext cx="9047160" cy="65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Arabia’s location good for tra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re some of the things people trad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than trade goods, what else might travel along these rout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Questions: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22234" t="15811" r="2176" b="2056"/>
          <a:stretch/>
        </p:blipFill>
        <p:spPr>
          <a:xfrm>
            <a:off x="3962520" y="1693800"/>
            <a:ext cx="50292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quered N. Africa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berian Peninsul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&amp; Central A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pire based on strong government, common language (Arabic), &amp; using same kind of money across entire emp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ll b/c of religious &amp; political differ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50 C.E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bassid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efeated Umayya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Iberian Peninsul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p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ureaucrac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ystem of agencies/people who do work of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mi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uslim governors of Umayyad provi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p: The Umayyads (pp. 113-11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4582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werful empire with capital in Baghda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lture was very advanced (art, lit., math, medicin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k leaders led to dynasty’s fall to Fatimids &amp; Tur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ghd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pital of Abbasid Dynas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anding arm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my kept during times of peace AND w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olden 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iod when society/culture is at its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lligra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ncy hand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mar Khayy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mous Persian po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posing (or enemy)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The Abbasids (pp. 119-1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7520" y="152280"/>
            <a:ext cx="90964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mayyad gov’t in Spai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“al-Andalu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ed by Abd al-Rahman, who united Spanish Muslims &amp; built huge standing army to protect emp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rdoba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enter of Muslim trade, culture, &amp; learn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dreds of workshops &amp; good farms in countryside and HUGE libraries &amp; many scholars in 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ces in math, geography, medicin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ll apart b/c of Christian attacks &amp; Muslim fac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-Andal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rdob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pital city of al-Anda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p: Muslims in Spain (pp. 131-1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523880"/>
          <a:ext cx="8229600" cy="353556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Idea/Wo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Definition/Mean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were cities usually located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ng trade rou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 water (hint: near an </a:t>
                      </a: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OASI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ople who lived in cities are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dentary peop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n as city-dwellers (merchants, artisans, the rich, etc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ies were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s of tra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wth of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21:42Z</dcterms:created>
  <dc:creator>Wesley Banh</dc:creator>
  <dc:description/>
  <dc:language>en-US</dc:language>
  <cp:lastModifiedBy>Wesley Banh</cp:lastModifiedBy>
  <dcterms:modified xsi:type="dcterms:W3CDTF">2010-09-30T06:23:36Z</dcterms:modified>
  <cp:revision>2</cp:revision>
  <dc:subject/>
  <dc:title>Muslim Expansion:  Conquest &amp; Trade</dc:title>
</cp:coreProperties>
</file>