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5C0-479B-4FF7-B991-EC25AA57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E0B-D4CE-4EBE-8052-147B86C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7AE-EDBE-413B-A12B-1DABF54E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8C6-9E99-4D30-A787-2D5A6165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92B-DE32-46AC-8BED-F555AEF8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958-AA0B-40EF-8D6A-4775551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741-3478-48EF-8577-76C7A13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4575-CF70-4466-A6DF-C3B62FBD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96C-D9DC-43C4-AD78-FAD1C53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86A-3BC6-4D93-A80B-167C574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E427-76AF-4190-887A-11037BC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386-21EB-453C-8EB7-7739F7C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E489-3E56-4EF0-ADE4-AA34D56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32E-B573-4A6C-927E-C4DCCE6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C0D0-1A7C-4EA5-81FC-32BBF24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D9A3-1FCD-4151-A182-EF259C8D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AA0-6060-4519-884E-D7634096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F977-284A-4C66-A287-0997F777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055B-C155-4972-9196-A6DDB9A5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F75F-562F-4F87-A79A-21926B2F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4940-3758-451B-A2E2-73DDDB1E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306A-5E8F-48D2-A243-20BF82C9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DD9-235A-4D1A-84EE-A16AC3E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4A62-3A9B-4F2F-BF65-3F8EBFEB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CAC7-130A-4430-BFAD-70F32CC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4135-B581-42E0-89A0-7C92FF6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0196-0919-492B-B63E-3B7D1C4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7B67-B9F0-48BC-B6C0-A331903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DE75-5A0B-48F1-8E64-81ED98EA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5043-258D-484F-9835-B00D39D3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51F6-D959-4FF2-855E-2C987D52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61F85-73E8-4755-AFE1-488539D1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7697-8DEE-4B0B-A81E-FB053EEF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4C2-5812-4948-A22D-457D3BC0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701D-1834-4DDA-9FF1-A45FCCC6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F522-7AC6-49A0-846E-FFA7C72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0B93-1F83-431B-BFCF-7D479DF4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2BBE-A43A-4F2D-A446-22952808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0EF2-D96A-474F-AFC0-99520A2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CFA2-842C-42AC-9CCF-D3F9E82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3599-EF68-4F7D-9A6C-743BB05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85D9-2D5D-4778-BBEB-536B3D1E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3BDF-0B5B-4C5E-A303-CBE68DFA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91E6-E1C0-469D-BF1A-A671440B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A5E-6343-4683-804A-68FA6F6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38F3-C44F-4E57-BC0C-3083BEC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E6F2-9A22-4782-85E7-F1A93A2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34CE-359A-4D5C-BFE2-C7375E5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6195-2004-4DB6-9A42-701BDD69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1F68-6E2F-463E-AB55-16F63A6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EC2A-5045-4D85-BB37-34260DE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27072-C4DF-47B6-92E9-457F0AD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B754-AFC4-4781-8C9C-C7A4C4F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3C0B-2043-4FEA-971C-BF10D2D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79E0F-58F8-4A13-9236-3B976E93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5C4-FE69-43E2-B869-21E2F65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51B4-0940-4BA2-B293-2BD3BB3A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35B-607E-473A-8D30-6B1AF6A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14F-AF87-4784-BE84-F5B8B7D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304-FAD6-4EFC-8F0A-4D67BCB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72E1-4CD6-4C25-B038-EEA6DF7D80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D0A-E063-46CC-9EC4-20DEFB8DCE6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3AAD-8FEB-4743-A378-1A249BD16FC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9753-1931-4359-98D2-E77A6BC09D4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473-0B35-4CDD-B906-175220C44FA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History: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at is it?” 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y does it matter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 not…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533520" y="175248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n endless list of dates and dead people to be memor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057400" y="4495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random, unrelated figures and ev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3809880" y="5526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The study of past events and figu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6" descr="7th - History collage.jpg"/>
          <p:cNvPicPr/>
          <p:nvPr/>
        </p:nvPicPr>
        <p:blipFill>
          <a:blip r:embed="rId1"/>
          <a:stretch/>
        </p:blipFill>
        <p:spPr>
          <a:xfrm>
            <a:off x="298440" y="1752480"/>
            <a:ext cx="8547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33520" y="17524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studying how people and events in different places are related to each o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Content Placeholder 3" descr="Map - poultry trade flows.gif"/>
          <p:cNvPicPr/>
          <p:nvPr/>
        </p:nvPicPr>
        <p:blipFill>
          <a:blip r:embed="rId1"/>
          <a:stretch/>
        </p:blipFill>
        <p:spPr>
          <a:xfrm>
            <a:off x="380880" y="425520"/>
            <a:ext cx="8382240" cy="551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52280" y="361800"/>
            <a:ext cx="8894880" cy="558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8877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4" descr="300 - phalanx.jpg"/>
          <p:cNvPicPr/>
          <p:nvPr/>
        </p:nvPicPr>
        <p:blipFill>
          <a:blip r:embed="rId1"/>
          <a:stretch/>
        </p:blipFill>
        <p:spPr>
          <a:xfrm>
            <a:off x="1371600" y="762120"/>
            <a:ext cx="611496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looking for patterns and themes that appear and reappear in human histor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705720" cy="4462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6705720" cy="44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33520" y="5907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LWAYS CHAN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4495680" y="609480"/>
            <a:ext cx="4286520" cy="3486240"/>
          </a:xfrm>
          <a:prstGeom prst="rect">
            <a:avLst/>
          </a:prstGeom>
          <a:ln w="0">
            <a:noFill/>
          </a:ln>
        </p:spPr>
      </p:pic>
      <p:pic>
        <p:nvPicPr>
          <p:cNvPr id="241" name="Content Placeholder 6" descr="1956 - 5 mb Hard Drive.jpg"/>
          <p:cNvPicPr/>
          <p:nvPr/>
        </p:nvPicPr>
        <p:blipFill>
          <a:blip r:embed="rId4"/>
          <a:stretch/>
        </p:blipFill>
        <p:spPr>
          <a:xfrm>
            <a:off x="533520" y="609480"/>
            <a:ext cx="4038480" cy="5073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00 Blank White Ppt size.jpg"/>
          <p:cNvPicPr/>
          <p:nvPr/>
        </p:nvPicPr>
        <p:blipFill>
          <a:blip r:embed="rId5"/>
          <a:stretch/>
        </p:blipFill>
        <p:spPr>
          <a:xfrm>
            <a:off x="4565520" y="603360"/>
            <a:ext cx="4206960" cy="5121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4952880" y="1295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In order of appea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5 MB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SATA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Disney 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o, why does history matt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304776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s us where we came from and how we got 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s people to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 &amp; make sense of information to support their opinions &amp;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information &amp; decide whether or not it’s useful/true/accurate/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Vertical Text Placeholder 2"/>
          <p:cNvSpPr/>
          <p:nvPr/>
        </p:nvSpPr>
        <p:spPr>
          <a:xfrm>
            <a:off x="503280" y="1523880"/>
            <a:ext cx="818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with a partner for 1-2 minutes &amp; be prepared to share your answ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osing thought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533520" y="175248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Those who cannot remember the past are condemned to repeat it.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George Santay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5:14:58Z</dcterms:created>
  <dc:creator>Wesley Banh</dc:creator>
  <dc:description/>
  <dc:language>en-US</dc:language>
  <cp:lastModifiedBy>Wesley Banh</cp:lastModifiedBy>
  <dcterms:modified xsi:type="dcterms:W3CDTF">2010-08-30T06:22:15Z</dcterms:modified>
  <cp:revision>10</cp:revision>
  <dc:subject/>
  <dc:title>History:</dc:title>
</cp:coreProperties>
</file>