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D08DD-47D1-4CDD-AAF9-BF51C20A1E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EBC8A-56EA-4533-B253-AF25FCE086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AF9FF-3246-4034-9327-CCCA745347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12D7F-A26C-430C-9402-FD9E251593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3F5F6-EA99-4BB3-8F59-A394F49A13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F57D-7098-40E7-A02B-0AFC590E1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56D8-5153-4C57-8F73-249CA9367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8AF5-AFD5-45B8-91A9-33D9CC999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2D8A-0890-4FF5-B43B-1022D39B4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89FE-6481-45E4-941E-2A1ECA4EE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51E0-DCE3-4630-BE6C-25A2E6A17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1987-139D-44D4-BF6B-2F5874396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BE9A-774B-4FC9-8259-A66B5D128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B48A-DB4D-4787-BCA4-B1D1C8506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2A57-55F4-4EF4-9210-21E6F042D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24AB-66BC-473C-95A7-867F5F50D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DA4C-1025-4EE9-B2C5-D987DB1A8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1A72E-F644-4A00-8489-7B565D60F4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cap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hana, Mali, &amp; Songha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hana Ques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made Ghana wealth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 were th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erber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nd what did they do in Ghan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 attacked and conquered Ghan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li Ques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 was the founder of Mali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wa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imbuktu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nd why was it importan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 was Mali’s most famous king? What was the result of his pilgrimage to Mecc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factors caused Mali’s declin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nghai Ques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did the Songhai Empire begi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 was Askia Muhammad and how did he affect the religious beliefs of people in Songhai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factors caused Songhai’s declin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h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ew rich from gold-salt tra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erber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Muslim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nomads in North Africa who traded salt across Sahara to West Afr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roduced Islam &amp; Arabic to West Afri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sl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ity-Dwellers &amp; Upper class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– converted to Isl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armers &amp; Lower classe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– mostly kept old religion OR combined old ways with Isl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quered by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lmoravid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Muslims from N. Afric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l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nded by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undiat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imbuktu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– capital of Mali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ade/cultural center on Niger Riv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enter of Islamic lear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ansa Mus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– most famous king of Mal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ilgrimage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Mecca in 1324 impressed people who saw hi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ell apart b/c of internal (rebellions) and external (Berber invasions) problem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ngha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belled against Mali &amp; conquered lands in former Mali &amp; Ghana empi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skia Muhamm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– expanded Songhai empire &amp; spread Islam throughout empi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itie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onverted to Isl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untryside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blended old religion with Isl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ell apart b/c of weak leaders &amp; outside invas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3T23:34:42Z</dcterms:created>
  <dc:creator>Wesley Banh</dc:creator>
  <dc:description/>
  <dc:language>en-US</dc:language>
  <cp:lastModifiedBy>Wesley Banh</cp:lastModifiedBy>
  <dcterms:modified xsi:type="dcterms:W3CDTF">2010-10-14T05:57:45Z</dcterms:modified>
  <cp:revision>7</cp:revision>
  <dc:subject/>
  <dc:title>Recap: Ghana, Mali, &amp; Songhai</dc:title>
</cp:coreProperties>
</file>