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343-0213-4076-B0E2-E244821D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238-842C-4950-92EE-66CA711F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CDC-598B-4B2A-89FD-506CEE48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3EB-3C7A-4D00-8F1A-6D519A3D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CBF-D367-49D0-AB81-C98C44B2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308-8DEC-433A-B3E1-626DD058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640-2246-42A8-BF24-93C8195A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04B-73AC-48C2-9D90-3C1C3223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B88-48F8-4BA6-97E0-6847252E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122-9EC0-4D6B-B819-7DE13742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287-9299-4C9E-9E71-004A4070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28A-1107-49E3-A674-4F315280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E3CC-E529-4A72-84AD-465FAFD5A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 &amp; Contra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daism, Christianity, &amp; Isl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51264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: Judaism &amp; Christia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1371600"/>
          <a:ext cx="8458200" cy="5211720"/>
        </p:xfrm>
        <a:graphic>
          <a:graphicData uri="http://schemas.openxmlformats.org/drawingml/2006/table">
            <a:tbl>
              <a:tblPr/>
              <a:tblGrid>
                <a:gridCol w="1600200"/>
                <a:gridCol w="2133360"/>
                <a:gridCol w="2352960"/>
                <a:gridCol w="2371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Judai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hristia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sl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God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the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the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the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oly Boo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ah (Old Testam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ble (New Testam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r’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oph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hamm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fter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rrection:  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ven, Hell, or Purga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dise or 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Jesu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her a moral teacher or a false proph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 of G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last prophet (before Muhamma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nce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mic Beliefs, Practices, &amp; Laws” (Textbook pp.94-9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fine in composition books (Cornell Notes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r’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n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ia Law (definition i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. of pg 9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ve Pillars of Islam (copy down 5 pillars &amp; define each in your own wor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lamic Beliefs, Practices, &amp; Laws” (Textbook pp.94-9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1600200"/>
          <a:ext cx="7772400" cy="4876920"/>
        </p:xfrm>
        <a:graphic>
          <a:graphicData uri="http://schemas.openxmlformats.org/drawingml/2006/table">
            <a:tbl>
              <a:tblPr/>
              <a:tblGrid>
                <a:gridCol w="2286000"/>
                <a:gridCol w="5486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er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Definition/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r’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d’s revelations passed down to Muhammad from Gabri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n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hammad’s words &amp; dee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de for proper li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of worship for Musli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ia L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of laws based on Qur’an &amp; Sunn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Pillars of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Faith, 2) Prayer, 3) Alm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) Fasting, 5) Pilgr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things about Isla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: no alcohol or p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mad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are &amp; contrast the beliefs of Islam with those of Judaism &amp; Christianity.” (1-2 paragraph respons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e Mon 9/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e Tue 9/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3:19:02Z</dcterms:created>
  <dc:creator>Wesley Banh</dc:creator>
  <dc:description/>
  <dc:language>en-US</dc:language>
  <cp:lastModifiedBy>Wesley Banh</cp:lastModifiedBy>
  <dcterms:modified xsi:type="dcterms:W3CDTF">2010-09-21T04:39:13Z</dcterms:modified>
  <cp:revision>16</cp:revision>
  <dc:subject/>
  <dc:title>Compare &amp; Contrast: Judaism, Christianity, &amp; Islam</dc:title>
</cp:coreProperties>
</file>