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2F1-3228-4E09-872A-1E1A7D0C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A69-CB14-44E7-BD76-03EB92D5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B38-15D8-4BE5-986F-3A720D14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16A-928F-4746-BA7B-1AE82671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B34-EB23-4E99-A1EE-172EE23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63E-9C36-426B-AAB2-B0F694D9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822-75B2-4B51-8C6C-84F1EA44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CD2-421F-40D0-8637-FE3ED38F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9F1-0737-47D3-BF1E-6B468629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1E0-534F-4FE0-8806-F2DC74A6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31C-EFBC-4E06-A6F4-FFF0EB43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B11-1317-4BAC-A523-FFC1B1A3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FF81-72B8-420F-ACE6-370B1BCE7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&amp; Contra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daism, Christianity, &amp;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51264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Judaism &amp; Christia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371600"/>
          <a:ext cx="8458200" cy="5211720"/>
        </p:xfrm>
        <a:graphic>
          <a:graphicData uri="http://schemas.openxmlformats.org/drawingml/2006/table">
            <a:tbl>
              <a:tblPr/>
              <a:tblGrid>
                <a:gridCol w="1600200"/>
                <a:gridCol w="2133360"/>
                <a:gridCol w="2352960"/>
                <a:gridCol w="23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udai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hristia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sl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God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ly Boo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h (Old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ble (New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oph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fter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rrection: 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en, Hell, or Purga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dise or 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esu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a moral teacher or a false proph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of G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last prophet (before Muhamma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ce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ine in composition books (Cornell Notes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ia Law (definition i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. of pg 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Pillars of Islam (copy down 5 pillars &amp; define each in your own wo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600200"/>
          <a:ext cx="7772400" cy="4876920"/>
        </p:xfrm>
        <a:graphic>
          <a:graphicData uri="http://schemas.openxmlformats.org/drawingml/2006/table">
            <a:tbl>
              <a:tblPr/>
              <a:tblGrid>
                <a:gridCol w="2286000"/>
                <a:gridCol w="5486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e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’s revelations passed down to Muhammad from Gabri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’s words &amp; dee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 for proper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of worship for Musli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ia L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of laws based on Qur’an &amp; 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Pillars of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Faith, 2) Prayer, 3) Alm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Fasting, 5) Pilgr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things about Isl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: no alcohol or p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ma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are &amp; contrast the beliefs of Islam with those of Judaism &amp; Christianity.” (1-2 paragraph respons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Mon 9/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Tue 9/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3:19:02Z</dcterms:created>
  <dc:creator>Wesley Banh</dc:creator>
  <dc:description/>
  <dc:language>en-US</dc:language>
  <cp:lastModifiedBy>Wesley Banh</cp:lastModifiedBy>
  <dcterms:modified xsi:type="dcterms:W3CDTF">2010-09-21T04:39:13Z</dcterms:modified>
  <cp:revision>16</cp:revision>
  <dc:subject/>
  <dc:title>Compare &amp; Contrast: Judaism, Christianity, &amp; Islam</dc:title>
</cp:coreProperties>
</file>