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F4F-8679-4D31-AB65-C55FA5B6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99A-202F-43F4-B30E-E71CB08B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D17-9491-4B07-A7F3-C393976C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87A-8550-41A1-8320-BB775E01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946-A3B5-4C88-B5A0-D289AF3A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807-DEB0-4DB6-9DEA-25D9B1EB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3FF-8E57-478E-A008-F0E9139F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1B6-DED2-43FD-960B-E16985FD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787-B107-4F07-AC2B-17453A1D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C67F-5CE2-4DCF-93C1-86DE5352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9F7-3710-4826-B735-57D4A8E2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26D-B824-4674-9C51-BF70C842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691F-097E-49A1-8822-8D2B1C692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fe &amp; Teach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 Muhamm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34640"/>
            <a:ext cx="83059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edou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ab herders known for their nomadic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l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amily of people related by blood or marri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a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ce in the desert with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ph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meone who speaks the word of God (e.g. Moses, Jesus, Muhammad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514440"/>
            <a:ext cx="85341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BS – Islam: Empire of Fait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0:00 to 15:2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ideo will cover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take notes as you wat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ly life of Muhamm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life in the desert was lik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igion in the desert(before Isla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ition/significance of Mecca &amp; Ka’a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hammad’s life as a merchant &amp; marri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will call on students to respond to questions &amp; “I don’t know” won’t be good enoug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c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240" y="1934640"/>
            <a:ext cx="5181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&amp; religious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Ka’ab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shrine in the center of Mecca people visited to w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abs thought it was built by Abraham &amp; Ishmael as a temple to God (i.e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lla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Spread of Islam Map.jpg"/>
          <p:cNvPicPr/>
          <p:nvPr/>
        </p:nvPicPr>
        <p:blipFill>
          <a:blip r:embed="rId1"/>
          <a:srcRect l="48804" t="43586" r="2208" b="2780"/>
          <a:stretch/>
        </p:blipFill>
        <p:spPr>
          <a:xfrm>
            <a:off x="5105520" y="73080"/>
            <a:ext cx="3962160" cy="3157560"/>
          </a:xfrm>
          <a:prstGeom prst="rect">
            <a:avLst/>
          </a:prstGeom>
          <a:ln w="0">
            <a:noFill/>
          </a:ln>
        </p:spPr>
      </p:pic>
      <p:sp>
        <p:nvSpPr>
          <p:cNvPr id="50" name="Striped Right Arrow 4"/>
          <p:cNvSpPr/>
          <p:nvPr/>
        </p:nvSpPr>
        <p:spPr>
          <a:xfrm rot="1306800">
            <a:off x="3699000" y="1147320"/>
            <a:ext cx="2319120" cy="457200"/>
          </a:xfrm>
          <a:prstGeom prst="pi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rcRect l="20136" t="0" r="6945" b="0"/>
          <a:stretch/>
        </p:blipFill>
        <p:spPr>
          <a:xfrm>
            <a:off x="5410080" y="2971800"/>
            <a:ext cx="35053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hamm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93464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ca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from video): lived with Bedouin as a youth, life as merchant, marriage to Khadij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rly Isl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tated alone in a cav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changel Gabriel appeared &amp; gave Muhammad a message from God (later became basis for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Qur’a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inued meditating for 3 years before beginning to preach his new relig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Beliefs of Isl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theistic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e god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a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Qur’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velations of God’s word to Muhammad from the angel Gabri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lims as descendant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rah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lso the ancestor of Jews &amp; Christi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r’an, Torah, &amp; Bible all have the word of God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r’an was the perfected, or “finished,” 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41234" t="19578" r="17723" b="17523"/>
          <a:stretch/>
        </p:blipFill>
        <p:spPr>
          <a:xfrm>
            <a:off x="7439040" y="1765440"/>
            <a:ext cx="1552680" cy="1587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hammad &amp; the Hijr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934640"/>
            <a:ext cx="4952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10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. &amp; followers persecuted in Mec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ijra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uhammad’s escape to Med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6480" indent="-514440">
              <a:lnSpc>
                <a:spcPct val="80000"/>
              </a:lnSpc>
              <a:spcBef>
                <a:spcPts val="524"/>
              </a:spcBef>
              <a:buClr>
                <a:srgbClr val="9bbb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dina converted to Islam &amp; helped Muhamma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. forgave people of Mecca &amp; dedicated the Ka’aba to Alla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. made alliances with Bedouin in desert (who helped spread his mess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ified most of Arabian peninsula before dying in 632 C.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Spread of Islam 622-750CE.jpg"/>
          <p:cNvPicPr/>
          <p:nvPr/>
        </p:nvPicPr>
        <p:blipFill>
          <a:blip r:embed="rId1"/>
          <a:stretch/>
        </p:blipFill>
        <p:spPr>
          <a:xfrm>
            <a:off x="5141880" y="1981080"/>
            <a:ext cx="38498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3:56:50Z</dcterms:created>
  <dc:creator>Wesley Banh</dc:creator>
  <dc:description/>
  <dc:language>en-US</dc:language>
  <cp:lastModifiedBy>Wesley Banh</cp:lastModifiedBy>
  <dcterms:modified xsi:type="dcterms:W3CDTF">2010-09-20T05:20:30Z</dcterms:modified>
  <cp:revision>16</cp:revision>
  <dc:subject/>
  <dc:title>Life &amp; Teachings  Of Muhammad</dc:title>
</cp:coreProperties>
</file>