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5AA-070A-44C8-9D50-B26C8CF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F0B-C849-481E-8A79-65A2C9E5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670-4D7C-4BCB-9A92-63D97C66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C2B-8A33-498F-8477-5F9B0ED4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4C4-FD9A-4760-9AD7-5743A5C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29C-2FC3-4DCB-BE74-A6FEF07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036-586B-4C06-866B-7F216A3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2DC-BAB4-4D9E-8E04-11D68DF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2AD-6DA1-4B40-B068-48F9E2A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5FA-71DA-476D-AB96-D36D4E9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84F-E514-41A0-96CD-89C56C6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777-98AF-4A1A-82C0-D177FEA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B24-59DA-4082-B4A4-167D68BF8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&amp; Teach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dou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ab herders known for their nomadic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mily of people related by blood or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 in the desert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h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who speaks the word of God (e.g. Moses, Jesus, Muhammad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8534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BS – Islam: Empire of Fai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0:00 to 15: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will cover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ake notes as you wat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life of Muhamm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fe in the desert was li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in the desert(before Isla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tion/significance of Mecca &amp; Ka’a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hammad’s life as a merchant &amp; marri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will call on students to respond to questions &amp; “I don’t know” won’t be good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&amp; religious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a’a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hrine in the center of Mecca people visited to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bs thought it was built by Abraham &amp; Ishmael as a temple to God (i.e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pread of Islam Map.jpg"/>
          <p:cNvPicPr/>
          <p:nvPr/>
        </p:nvPicPr>
        <p:blipFill>
          <a:blip r:embed="rId1"/>
          <a:srcRect l="48804" t="43586" r="2208" b="2780"/>
          <a:stretch/>
        </p:blipFill>
        <p:spPr>
          <a:xfrm>
            <a:off x="5105520" y="73080"/>
            <a:ext cx="396216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Striped Right Arrow 4"/>
          <p:cNvSpPr/>
          <p:nvPr/>
        </p:nvSpPr>
        <p:spPr>
          <a:xfrm rot="1306800">
            <a:off x="3699000" y="1147320"/>
            <a:ext cx="2319120" cy="457200"/>
          </a:xfrm>
          <a:prstGeom prst="pi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20136" t="0" r="6945" b="0"/>
          <a:stretch/>
        </p:blipFill>
        <p:spPr>
          <a:xfrm>
            <a:off x="5410080" y="2971800"/>
            <a:ext cx="3505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a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video): lived with Bedouin as a youth, life as merchant, marriage to Khadij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tated alone in a cav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angel Gabriel appeared &amp; gave Muhammad a message from God (later became basis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d meditating for 3 years before beginning to preach his new reli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eliefs of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theist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 go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velations of God’s word to Muhammad from the angel Gab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s as descendan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ah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lso the ancestor of Jews &amp; Christ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, Torah, &amp; Bible all have the word of God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r’an was the perfected, or “finished,”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1234" t="19578" r="17723" b="17523"/>
          <a:stretch/>
        </p:blipFill>
        <p:spPr>
          <a:xfrm>
            <a:off x="7439040" y="1765440"/>
            <a:ext cx="1552680" cy="158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 &amp; the Hij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34640"/>
            <a:ext cx="4952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0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&amp; followers persecuted in Mec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ijra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uhammad’s escape to Med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6480" indent="-514440">
              <a:lnSpc>
                <a:spcPct val="80000"/>
              </a:lnSpc>
              <a:spcBef>
                <a:spcPts val="524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na converted to Islam &amp; helped Muhamm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forgave people of Mecca &amp; dedicated the Ka’aba to Alla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made alliances with Bedouin in desert (who helped spread his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fied most of Arabian peninsula before dying in 632 C.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pread of Islam 622-750CE.jpg"/>
          <p:cNvPicPr/>
          <p:nvPr/>
        </p:nvPicPr>
        <p:blipFill>
          <a:blip r:embed="rId1"/>
          <a:stretch/>
        </p:blipFill>
        <p:spPr>
          <a:xfrm>
            <a:off x="5141880" y="1981080"/>
            <a:ext cx="3849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3:56:50Z</dcterms:created>
  <dc:creator>Wesley Banh</dc:creator>
  <dc:description/>
  <dc:language>en-US</dc:language>
  <cp:lastModifiedBy>Wesley Banh</cp:lastModifiedBy>
  <dcterms:modified xsi:type="dcterms:W3CDTF">2010-09-20T05:20:30Z</dcterms:modified>
  <cp:revision>16</cp:revision>
  <dc:subject/>
  <dc:title>Life &amp; Teachings  Of Muhammad</dc:title>
</cp:coreProperties>
</file>